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8758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EBB84-0F48-442E-ADEB-1E2E28676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DFF10-A30C-436F-A04B-9BA264445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7D701-17B9-4E40-918D-CE9603551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3BC4F-106E-4264-B562-5068C648A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AFB16-3C8A-47F3-820E-D7AC1C7DC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1E7FF-86D5-4D3D-883C-67FB4D711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5C9A9-6F62-4246-95A0-F4DC6D1C0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3AF5C-B12A-46A2-8C51-7FF50A87D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EA630-0858-4EDC-BC0D-09233B5DF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06040-820A-4568-99CF-FD09C58D7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6CAAC-F1AF-4A42-8A05-56947BD66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B48D2-898E-4E06-9820-918170357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B1F2B-9A7B-4548-9F54-ACE80BFB8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8F1CD-B155-41F9-AD31-6D294070D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CA326-94C3-44FB-A96B-6A7161B68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5D034-E231-491B-84AD-3B1E83563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2B052-DB9D-4B6F-A1E4-46D1837FF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F4E89-77DE-4804-8461-21AE0364F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CFE61-9C27-497F-9ACB-052FF099E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38D6E-DFBE-4090-B920-5F57D23C9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C0F59-0248-48D4-B23A-3AB24BFAD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E21BE-6219-418F-874C-AE68AD902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F039E-B035-494F-9BD5-F37EA575A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E2FA4-540C-48E4-9A15-8BAFD23CC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8400"/>
            <a:ext cx="8915400" cy="6713280"/>
            <a:chOff x="0" y="68400"/>
            <a:chExt cx="8915400" cy="6713280"/>
          </a:xfrm>
        </p:grpSpPr>
        <p:grpSp>
          <p:nvGrpSpPr>
            <p:cNvPr id="1" name=""/>
            <p:cNvGrpSpPr/>
            <p:nvPr/>
          </p:nvGrpSpPr>
          <p:grpSpPr>
            <a:xfrm>
              <a:off x="0" y="68400"/>
              <a:ext cx="647640" cy="6713280"/>
              <a:chOff x="0" y="68400"/>
              <a:chExt cx="647640" cy="671328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6672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72948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781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652932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6453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660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58197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57769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63817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6181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6053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6348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5853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59389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6253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6219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55720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56293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5681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54291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53532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500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47196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4676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52815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508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0" y="49528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0" y="52484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0" y="47530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0" y="4838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0" y="515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0" y="51195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0" y="449424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0" y="43657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0" y="4251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0" y="4565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0" y="45324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0" y="4054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0" y="4111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0" y="41641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0" y="391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0" y="3835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0" y="398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0" y="3763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0" y="35640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0" y="37306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0" y="36352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36021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0" y="3381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0" y="3438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3490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0" y="3238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3162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0" y="3309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0" y="25290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24861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09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2890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762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3057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621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6478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0" y="29624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0" y="29289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0" y="2281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0" y="2338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0" y="23907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0" y="21384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0" y="22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0" y="16128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0" y="1569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0" y="19749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0" y="1846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0" y="1646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0" y="17319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0" y="20462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0" y="2013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0" y="1365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0" y="1422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0" y="1474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0" y="12222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0" y="1293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0" y="1139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10256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828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885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9381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0" y="685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0" y="6094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0" y="7570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0" y="538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0" y="504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0" y="4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0" y="111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0" y="6840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0" y="144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0" y="230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0" y="320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635040" y="325440"/>
              <a:ext cx="8280360" cy="1782720"/>
              <a:chOff x="635040" y="325440"/>
              <a:chExt cx="8280360" cy="1782720"/>
            </a:xfrm>
          </p:grpSpPr>
          <p:sp>
            <p:nvSpPr>
              <p:cNvPr id="101" name=""/>
              <p:cNvSpPr/>
              <p:nvPr/>
            </p:nvSpPr>
            <p:spPr>
              <a:xfrm>
                <a:off x="884160" y="325440"/>
                <a:ext cx="496800" cy="145080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35040" y="4572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300800" y="1770120"/>
                <a:ext cx="1474920" cy="33804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252960" y="19224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020600" indent="-2145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342800" indent="-214560">
              <a:spcBef>
                <a:spcPts val="7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1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2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3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6530C-3579-4453-93AB-178DE35AB677}" type="slidenum"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0" y="68400"/>
            <a:ext cx="8678880" cy="6713280"/>
            <a:chOff x="0" y="68400"/>
            <a:chExt cx="8678880" cy="6713280"/>
          </a:xfrm>
        </p:grpSpPr>
        <p:sp>
          <p:nvSpPr>
            <p:cNvPr id="147" name=""/>
            <p:cNvSpPr/>
            <p:nvPr/>
          </p:nvSpPr>
          <p:spPr>
            <a:xfrm>
              <a:off x="1098720" y="784080"/>
              <a:ext cx="7580160" cy="14860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0" y="68400"/>
              <a:ext cx="990720" cy="6713280"/>
              <a:chOff x="0" y="68400"/>
              <a:chExt cx="990720" cy="6713280"/>
            </a:xfrm>
          </p:grpSpPr>
          <p:sp>
            <p:nvSpPr>
              <p:cNvPr id="149" name=""/>
              <p:cNvSpPr/>
              <p:nvPr/>
            </p:nvSpPr>
            <p:spPr>
              <a:xfrm>
                <a:off x="0" y="6672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0" y="672948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0" y="6781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0" y="652932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0" y="6453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0" y="660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0" y="58197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0" y="57769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0" y="63817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0" y="6181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0" y="6053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0" y="6348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0" y="5853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0" y="59389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0" y="6253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6219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55720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56293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5681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0" y="54291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0" y="53532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0" y="5500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0" y="47196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0" y="4676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0" y="52815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0" y="508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0" y="49528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0" y="52484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0" y="47530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0" y="4838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0" y="515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0" y="51195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0" y="449424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0" y="43657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0" y="4251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0" y="4565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0" y="45324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0" y="4054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0" y="4111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0" y="41641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0" y="391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0" y="3835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0" y="398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0" y="3763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0" y="35640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0" y="37306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0" y="36352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0" y="36021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0" y="3381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0" y="3438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0" y="3490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0" y="3238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0" y="3162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0" y="3309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0" y="25290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0" y="24861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0" y="309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0" y="2890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0" y="2762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0" y="3057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0" y="25621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0" y="26478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0" y="29624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0" y="29289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0" y="2281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0" y="2338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0" y="23907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0" y="21384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0" y="22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0" y="16128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0" y="1569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0" y="19749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0" y="1846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0" y="1646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0" y="17319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0" y="20462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0" y="2013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0" y="1365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0" y="1422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0" y="1474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0" y="12222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0" y="1293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0" y="1139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0" y="10256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0" y="828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0" y="885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0" y="9381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685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0" y="6094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0" y="7570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538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0" y="504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0" y="4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0" y="111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0" y="6840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144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0" y="230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0" y="320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7" name="PlaceHolder 1"/>
          <p:cNvSpPr>
            <a:spLocks noGrp="1"/>
          </p:cNvSpPr>
          <p:nvPr>
            <p:ph type="dt" idx="4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5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6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5C353-3508-442E-B82A-DC98787179D5}" type="slidenum"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251" name=""/>
          <p:cNvSpPr/>
          <p:nvPr/>
        </p:nvSpPr>
        <p:spPr>
          <a:xfrm>
            <a:off x="3017880" y="2120760"/>
            <a:ext cx="5662440" cy="77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098720" y="861840"/>
            <a:ext cx="5662440" cy="781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2" marL="857160" algn="ctr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3" marL="1200240" algn="ctr">
              <a:spcBef>
                <a:spcPts val="4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4" marL="1542960" algn="ctr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5" marL="154296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6" marL="154296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lerner@cs.nyu.edu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hyperlink" Target="http://www.cs.nyu.edu/~lerner" TargetMode="External"/><Relationship Id="rId2" Type="http://schemas.openxmlformats.org/officeDocument/2006/relationships/hyperlink" Target="http://www.cs.nyu.edu/~lerner" TargetMode="External"/><Relationship Id="rId3" Type="http://schemas.openxmlformats.org/officeDocument/2006/relationships/hyperlink" Target="http://www.cs.nyu.edu/~lerner" TargetMode="External"/><Relationship Id="rId4" Type="http://schemas.openxmlformats.org/officeDocument/2006/relationships/hyperlink" Target="http://www.cs.nyu.edu/~lerner" TargetMode="External"/><Relationship Id="rId5" Type="http://schemas.openxmlformats.org/officeDocument/2006/relationships/hyperlink" Target="http://www.cs.nyu.edu/~lerner" TargetMode="External"/><Relationship Id="rId6" Type="http://schemas.openxmlformats.org/officeDocument/2006/relationships/hyperlink" Target="http://www.cs.nyu.edu/~lerner" TargetMode="External"/><Relationship Id="rId7" Type="http://schemas.openxmlformats.org/officeDocument/2006/relationships/hyperlink" Target="http://www.cs.nyu.edu/~lerner" TargetMode="External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Garamond"/>
              </a:rPr>
              <a:t>A</a:t>
            </a:r>
            <a:r>
              <a:rPr b="0" lang="pt-BR" sz="4000" spc="-1" strike="noStrike">
                <a:solidFill>
                  <a:srgbClr val="003366"/>
                </a:solidFill>
                <a:latin typeface="Garamond"/>
              </a:rPr>
              <a:t>Q</a:t>
            </a:r>
            <a:r>
              <a:rPr b="0" lang="en-US" sz="4000" spc="-1" strike="noStrike">
                <a:solidFill>
                  <a:srgbClr val="003366"/>
                </a:solidFill>
                <a:latin typeface="Garamond"/>
              </a:rPr>
              <a:t>uery </a:t>
            </a:r>
            <a:br>
              <a:rPr sz="4000"/>
            </a:br>
            <a:r>
              <a:rPr b="0" lang="en-US" sz="4000" spc="-1" strike="noStrike">
                <a:solidFill>
                  <a:srgbClr val="003366"/>
                </a:solidFill>
                <a:latin typeface="Garamond"/>
              </a:rPr>
              <a:t>A D</a:t>
            </a:r>
            <a:r>
              <a:rPr b="0" lang="pt-BR" sz="4000" spc="-1" strike="noStrike">
                <a:solidFill>
                  <a:srgbClr val="003366"/>
                </a:solidFill>
                <a:latin typeface="Garamond"/>
              </a:rPr>
              <a:t>atabase </a:t>
            </a:r>
            <a:r>
              <a:rPr b="0" lang="en-US" sz="4000" spc="-1" strike="noStrike">
                <a:solidFill>
                  <a:srgbClr val="003366"/>
                </a:solidFill>
                <a:latin typeface="Garamond"/>
              </a:rPr>
              <a:t>S</a:t>
            </a:r>
            <a:r>
              <a:rPr b="0" lang="pt-BR" sz="4000" spc="-1" strike="noStrike">
                <a:solidFill>
                  <a:srgbClr val="003366"/>
                </a:solidFill>
                <a:latin typeface="Garamond"/>
              </a:rPr>
              <a:t>ystem for</a:t>
            </a:r>
            <a:r>
              <a:rPr b="0" lang="en-US" sz="4000" spc="-1" strike="noStrike">
                <a:solidFill>
                  <a:srgbClr val="003366"/>
                </a:solidFill>
                <a:latin typeface="Garamond"/>
              </a:rPr>
              <a:t> O</a:t>
            </a:r>
            <a:r>
              <a:rPr b="0" lang="pt-BR" sz="4000" spc="-1" strike="noStrike">
                <a:solidFill>
                  <a:srgbClr val="003366"/>
                </a:solidFill>
                <a:latin typeface="Garamond"/>
              </a:rPr>
              <a:t>rder</a:t>
            </a:r>
            <a:endParaRPr b="0" lang="en-US" sz="40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1905120" y="342900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Dennis Shasha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Joint work with Alberto Lerner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Times New Roman"/>
                <a:hlinkClick r:id="rId1"/>
              </a:rPr>
              <a:t>lerner@cs.nyu.edu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shasha@cs.nyu.edu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Garamond"/>
              </a:rPr>
              <a:t>Moving average </a:t>
            </a:r>
            <a:br>
              <a:rPr sz="4400"/>
            </a:br>
            <a:r>
              <a:rPr b="0" lang="pt-BR" sz="4400" spc="-1" strike="noStrike">
                <a:solidFill>
                  <a:srgbClr val="003366"/>
                </a:solidFill>
                <a:latin typeface="Garamond"/>
              </a:rPr>
              <a:t>over Arrables</a:t>
            </a: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359" name=""/>
          <p:cNvSpPr/>
          <p:nvPr/>
        </p:nvSpPr>
        <p:spPr>
          <a:xfrm>
            <a:off x="844560" y="2376360"/>
            <a:ext cx="2741760" cy="25560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114280" y="2330280"/>
            <a:ext cx="622800" cy="173988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0" lang="pt-BR" sz="1600" spc="-1" strike="noStrike">
                <a:solidFill>
                  <a:srgbClr val="003366"/>
                </a:solidFill>
                <a:latin typeface="Arial Narrow"/>
              </a:rPr>
              <a:t>sale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0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2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4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4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3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849040" y="2330280"/>
            <a:ext cx="650160" cy="173988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0" lang="pt-BR" sz="1600" spc="-1" strike="noStrike">
                <a:solidFill>
                  <a:srgbClr val="003366"/>
                </a:solidFill>
                <a:latin typeface="Arial Narrow"/>
              </a:rPr>
              <a:t>3-avg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0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1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2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33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36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270440" y="2330280"/>
            <a:ext cx="695880" cy="173988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0" lang="pt-BR" sz="1600" spc="-1" strike="noStrike">
                <a:solidFill>
                  <a:srgbClr val="003366"/>
                </a:solidFill>
                <a:latin typeface="Arial Narrow"/>
              </a:rPr>
              <a:t>month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3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4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894120" y="2362320"/>
            <a:ext cx="3644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SELECT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month,avgs(3,sales)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FROM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Sale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ASSUMING ORDER month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507480" y="3789360"/>
            <a:ext cx="4821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3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Garamond"/>
              </a:rPr>
              <a:t> </a:t>
            </a:r>
            <a:r>
              <a:rPr b="0" lang="pt-BR" sz="2400" spc="-1" strike="noStrike">
                <a:solidFill>
                  <a:srgbClr val="003366"/>
                </a:solidFill>
                <a:latin typeface="Garamond"/>
              </a:rPr>
              <a:t>Arrable: a collection of named</a:t>
            </a:r>
            <a:br>
              <a:rPr sz="2400"/>
            </a:br>
            <a:r>
              <a:rPr b="0" lang="pt-BR" sz="2400" spc="-1" strike="noStrike">
                <a:solidFill>
                  <a:srgbClr val="003366"/>
                </a:solidFill>
                <a:latin typeface="Garamond"/>
              </a:rPr>
              <a:t>arrays, ordered by a column list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489120" y="4587840"/>
            <a:ext cx="521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3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Garamond"/>
              </a:rPr>
              <a:t> </a:t>
            </a:r>
            <a:r>
              <a:rPr b="0" lang="pt-BR" sz="2400" spc="-1" strike="noStrike">
                <a:solidFill>
                  <a:srgbClr val="003366"/>
                </a:solidFill>
                <a:latin typeface="Garamond"/>
              </a:rPr>
              <a:t>Each query defines data ordering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4952880" y="2895480"/>
            <a:ext cx="2590920" cy="3049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Garamond"/>
              </a:rPr>
              <a:t>Moving average </a:t>
            </a:r>
            <a:br>
              <a:rPr sz="4400"/>
            </a:br>
            <a:r>
              <a:rPr b="0" lang="pt-BR" sz="4400" spc="-1" strike="noStrike">
                <a:solidFill>
                  <a:srgbClr val="003366"/>
                </a:solidFill>
                <a:latin typeface="Garamond"/>
              </a:rPr>
              <a:t>over Arrables</a:t>
            </a: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368" name=""/>
          <p:cNvSpPr/>
          <p:nvPr/>
        </p:nvSpPr>
        <p:spPr>
          <a:xfrm>
            <a:off x="844560" y="2376360"/>
            <a:ext cx="2741760" cy="25560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14280" y="2330280"/>
            <a:ext cx="622800" cy="173988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0" lang="pt-BR" sz="1600" spc="-1" strike="noStrike">
                <a:solidFill>
                  <a:srgbClr val="003366"/>
                </a:solidFill>
                <a:latin typeface="Arial Narrow"/>
              </a:rPr>
              <a:t>sale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0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2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4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4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3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49040" y="2330280"/>
            <a:ext cx="650160" cy="173988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0" lang="pt-BR" sz="1600" spc="-1" strike="noStrike">
                <a:solidFill>
                  <a:srgbClr val="003366"/>
                </a:solidFill>
                <a:latin typeface="Arial Narrow"/>
              </a:rPr>
              <a:t>3-avg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0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1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2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33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36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1270440" y="2330280"/>
            <a:ext cx="695880" cy="173988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0" lang="pt-BR" sz="1600" spc="-1" strike="noStrike">
                <a:solidFill>
                  <a:srgbClr val="003366"/>
                </a:solidFill>
                <a:latin typeface="Arial Narrow"/>
              </a:rPr>
              <a:t>month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3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4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894120" y="2362320"/>
            <a:ext cx="3644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SELECT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month,avgs(3,sales)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FROM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Sale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ASSUMING ORDER month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507480" y="3789360"/>
            <a:ext cx="4821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3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Garamond"/>
              </a:rPr>
              <a:t> </a:t>
            </a:r>
            <a:r>
              <a:rPr b="0" lang="pt-BR" sz="2400" spc="-1" strike="noStrike">
                <a:solidFill>
                  <a:srgbClr val="003366"/>
                </a:solidFill>
                <a:latin typeface="Garamond"/>
              </a:rPr>
              <a:t>Arrable: a collection of named</a:t>
            </a:r>
            <a:br>
              <a:rPr sz="2400"/>
            </a:br>
            <a:r>
              <a:rPr b="0" lang="pt-BR" sz="2400" spc="-1" strike="noStrike">
                <a:solidFill>
                  <a:srgbClr val="003366"/>
                </a:solidFill>
                <a:latin typeface="Garamond"/>
              </a:rPr>
              <a:t>arrays, ordered by a column list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489120" y="4587840"/>
            <a:ext cx="521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3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Garamond"/>
              </a:rPr>
              <a:t> </a:t>
            </a:r>
            <a:r>
              <a:rPr b="0" lang="pt-BR" sz="2400" spc="-1" strike="noStrike">
                <a:solidFill>
                  <a:srgbClr val="003366"/>
                </a:solidFill>
                <a:latin typeface="Garamond"/>
              </a:rPr>
              <a:t>Each query defines data ordering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501720" y="5076720"/>
            <a:ext cx="5204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3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Garamond"/>
              </a:rPr>
              <a:t> </a:t>
            </a:r>
            <a:r>
              <a:rPr b="0" lang="pt-BR" sz="2400" spc="-1" strike="noStrike">
                <a:solidFill>
                  <a:srgbClr val="003366"/>
                </a:solidFill>
                <a:latin typeface="Garamond"/>
              </a:rPr>
              <a:t>Variables (e.g., month) are bound</a:t>
            </a:r>
            <a:br>
              <a:rPr sz="2400"/>
            </a:br>
            <a:r>
              <a:rPr b="0" lang="pt-BR" sz="2400" spc="-1" strike="noStrike">
                <a:solidFill>
                  <a:srgbClr val="003366"/>
                </a:solidFill>
                <a:latin typeface="Garamond"/>
              </a:rPr>
              <a:t>to an array, as opposed to a valu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876920" y="2362320"/>
            <a:ext cx="838080" cy="3045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1752480" y="2044800"/>
            <a:ext cx="3353040" cy="317520"/>
          </a:xfrm>
          <a:custGeom>
            <a:avLst/>
            <a:gdLst/>
            <a:ahLst/>
            <a:rect l="l" t="t" r="r" b="b"/>
            <a:pathLst>
              <a:path w="2112" h="200">
                <a:moveTo>
                  <a:pt x="2112" y="200"/>
                </a:moveTo>
                <a:cubicBezTo>
                  <a:pt x="1640" y="108"/>
                  <a:pt x="1168" y="16"/>
                  <a:pt x="816" y="8"/>
                </a:cubicBezTo>
                <a:cubicBezTo>
                  <a:pt x="464" y="0"/>
                  <a:pt x="232" y="76"/>
                  <a:pt x="0" y="152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219320" y="2286000"/>
            <a:ext cx="761760" cy="18288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Garamond"/>
              </a:rPr>
              <a:t>Moving average </a:t>
            </a:r>
            <a:br>
              <a:rPr sz="4400"/>
            </a:br>
            <a:r>
              <a:rPr b="0" lang="pt-BR" sz="4400" spc="-1" strike="noStrike">
                <a:solidFill>
                  <a:srgbClr val="003366"/>
                </a:solidFill>
                <a:latin typeface="Garamond"/>
              </a:rPr>
              <a:t>over Arrables</a:t>
            </a: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380" name=""/>
          <p:cNvSpPr/>
          <p:nvPr/>
        </p:nvSpPr>
        <p:spPr>
          <a:xfrm>
            <a:off x="844560" y="2376360"/>
            <a:ext cx="2741760" cy="25560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2114280" y="2330280"/>
            <a:ext cx="622800" cy="173988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0" lang="pt-BR" sz="1600" spc="-1" strike="noStrike">
                <a:solidFill>
                  <a:srgbClr val="003366"/>
                </a:solidFill>
                <a:latin typeface="Arial Narrow"/>
              </a:rPr>
              <a:t>sale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0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2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4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4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3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2849040" y="2330280"/>
            <a:ext cx="650160" cy="173988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0" lang="pt-BR" sz="1600" spc="-1" strike="noStrike">
                <a:solidFill>
                  <a:srgbClr val="003366"/>
                </a:solidFill>
                <a:latin typeface="Arial Narrow"/>
              </a:rPr>
              <a:t>3-avg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0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1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2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33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36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70440" y="2330280"/>
            <a:ext cx="695880" cy="173988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0" lang="pt-BR" sz="1600" spc="-1" strike="noStrike">
                <a:solidFill>
                  <a:srgbClr val="003366"/>
                </a:solidFill>
                <a:latin typeface="Arial Narrow"/>
              </a:rPr>
              <a:t>month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3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4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894120" y="2362320"/>
            <a:ext cx="3644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SELECT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month,avgs(3,sales)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FROM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Sale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ASSUMING ORDER month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507480" y="3789360"/>
            <a:ext cx="4821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3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Garamond"/>
              </a:rPr>
              <a:t> </a:t>
            </a:r>
            <a:r>
              <a:rPr b="0" lang="pt-BR" sz="2400" spc="-1" strike="noStrike">
                <a:solidFill>
                  <a:srgbClr val="003366"/>
                </a:solidFill>
                <a:latin typeface="Garamond"/>
              </a:rPr>
              <a:t>Arrable: a collection of named</a:t>
            </a:r>
            <a:br>
              <a:rPr sz="2400"/>
            </a:br>
            <a:r>
              <a:rPr b="0" lang="pt-BR" sz="2400" spc="-1" strike="noStrike">
                <a:solidFill>
                  <a:srgbClr val="003366"/>
                </a:solidFill>
                <a:latin typeface="Garamond"/>
              </a:rPr>
              <a:t>arrays, ordered by a column list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3489120" y="4587840"/>
            <a:ext cx="521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3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Garamond"/>
              </a:rPr>
              <a:t> </a:t>
            </a:r>
            <a:r>
              <a:rPr b="0" lang="pt-BR" sz="2400" spc="-1" strike="noStrike">
                <a:solidFill>
                  <a:srgbClr val="003366"/>
                </a:solidFill>
                <a:latin typeface="Garamond"/>
              </a:rPr>
              <a:t>Each query defines data ordering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501720" y="5076720"/>
            <a:ext cx="5204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3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Garamond"/>
              </a:rPr>
              <a:t> </a:t>
            </a:r>
            <a:r>
              <a:rPr b="0" lang="pt-BR" sz="2400" spc="-1" strike="noStrike">
                <a:solidFill>
                  <a:srgbClr val="003366"/>
                </a:solidFill>
                <a:latin typeface="Garamond"/>
              </a:rPr>
              <a:t>Variables (e.g., month) are bound</a:t>
            </a:r>
            <a:br>
              <a:rPr sz="2400"/>
            </a:br>
            <a:r>
              <a:rPr b="0" lang="pt-BR" sz="2400" spc="-1" strike="noStrike">
                <a:solidFill>
                  <a:srgbClr val="003366"/>
                </a:solidFill>
                <a:latin typeface="Garamond"/>
              </a:rPr>
              <a:t>to an array, as opposed to a valu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420000" y="5807160"/>
            <a:ext cx="5860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3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Garamond"/>
              </a:rPr>
              <a:t> </a:t>
            </a:r>
            <a:r>
              <a:rPr b="0" lang="pt-BR" sz="2400" spc="-1" strike="noStrike">
                <a:solidFill>
                  <a:srgbClr val="003366"/>
                </a:solidFill>
                <a:latin typeface="Garamond"/>
              </a:rPr>
              <a:t>Expression are mappings from arrays</a:t>
            </a:r>
            <a:br>
              <a:rPr sz="2400"/>
            </a:br>
            <a:r>
              <a:rPr b="0" lang="pt-BR" sz="2400" spc="-1" strike="noStrike">
                <a:solidFill>
                  <a:srgbClr val="003366"/>
                </a:solidFill>
                <a:latin typeface="Garamond"/>
              </a:rPr>
              <a:t>to array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638680" y="2362320"/>
            <a:ext cx="16765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Garamond"/>
              </a:rPr>
              <a:t>Built-in</a:t>
            </a:r>
            <a:r>
              <a:rPr b="0" lang="en-US" sz="4400" spc="-1" strike="noStrike">
                <a:solidFill>
                  <a:srgbClr val="003366"/>
                </a:solidFill>
                <a:latin typeface="Garamond"/>
              </a:rPr>
              <a:t> Functions</a:t>
            </a: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391" name=""/>
          <p:cNvSpPr/>
          <p:nvPr/>
        </p:nvSpPr>
        <p:spPr>
          <a:xfrm>
            <a:off x="2057400" y="297180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2666880" y="2819520"/>
            <a:ext cx="2438640" cy="152388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003366"/>
                </a:solidFill>
                <a:latin typeface="Garamond"/>
              </a:rPr>
              <a:t>prev, next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Garamond"/>
              </a:rPr>
              <a:t>avgs, prds, sums, </a:t>
            </a:r>
            <a:r>
              <a:rPr b="0" lang="pt-BR" sz="1800" spc="-1" strike="noStrike">
                <a:solidFill>
                  <a:srgbClr val="003366"/>
                </a:solidFill>
                <a:latin typeface="Garamond"/>
              </a:rPr>
              <a:t>mins,</a:t>
            </a:r>
            <a:br>
              <a:rPr sz="1800"/>
            </a:br>
            <a:r>
              <a:rPr b="0" lang="en-US" sz="1800" spc="-1" strike="noStrike">
                <a:solidFill>
                  <a:srgbClr val="003366"/>
                </a:solidFill>
                <a:latin typeface="Garamond"/>
              </a:rPr>
              <a:t>deltas, ratios, reverse,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Garamond"/>
              </a:rPr>
              <a:t>…</a:t>
            </a:r>
            <a:br>
              <a:rPr sz="1800"/>
            </a:b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105520" y="2819520"/>
            <a:ext cx="2438280" cy="152388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Garamond"/>
              </a:rPr>
              <a:t>drop, first, last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105520" y="4343400"/>
            <a:ext cx="2438280" cy="152388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2666880" y="4343400"/>
            <a:ext cx="2438640" cy="152388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1191240" y="3314880"/>
            <a:ext cx="112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order-</a:t>
            </a:r>
            <a:br>
              <a:rPr sz="1800"/>
            </a:b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depend</a:t>
            </a:r>
            <a:r>
              <a:rPr b="0" lang="pt-BR" sz="1800" spc="-1" strike="noStrike">
                <a:solidFill>
                  <a:srgbClr val="003366"/>
                </a:solidFill>
                <a:latin typeface="Times New Roman"/>
              </a:rPr>
              <a:t>e</a:t>
            </a: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nt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171080" y="4730760"/>
            <a:ext cx="114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non order-</a:t>
            </a:r>
            <a:br>
              <a:rPr sz="1800"/>
            </a:b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depend</a:t>
            </a:r>
            <a:r>
              <a:rPr b="0" lang="pt-BR" sz="1800" spc="-1" strike="noStrike">
                <a:solidFill>
                  <a:srgbClr val="003366"/>
                </a:solidFill>
                <a:latin typeface="Times New Roman"/>
              </a:rPr>
              <a:t>e</a:t>
            </a: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nt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3371400" y="2139840"/>
            <a:ext cx="114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size-</a:t>
            </a:r>
            <a:br>
              <a:rPr sz="1800"/>
            </a:b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preserving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760360" y="2139840"/>
            <a:ext cx="114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non size-</a:t>
            </a:r>
            <a:br>
              <a:rPr sz="1800"/>
            </a:b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preserving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666880" y="4343400"/>
            <a:ext cx="2438640" cy="152388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003366"/>
                </a:solidFill>
                <a:latin typeface="Garamond"/>
              </a:rPr>
              <a:t>rank, </a:t>
            </a:r>
            <a:r>
              <a:rPr b="0" lang="pt-BR" sz="1800" spc="-1" strike="noStrike">
                <a:solidFill>
                  <a:srgbClr val="003366"/>
                </a:solidFill>
                <a:latin typeface="Garamond"/>
              </a:rPr>
              <a:t>n-</a:t>
            </a:r>
            <a:r>
              <a:rPr b="0" lang="en-US" sz="1800" spc="-1" strike="noStrike">
                <a:solidFill>
                  <a:srgbClr val="003366"/>
                </a:solidFill>
                <a:latin typeface="Garamond"/>
              </a:rPr>
              <a:t>tile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105520" y="4343400"/>
            <a:ext cx="2438280" cy="152388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Garamond"/>
              </a:rPr>
              <a:t>min, max, avg, count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Garamond"/>
              </a:rPr>
              <a:t>Emotive Query</a:t>
            </a: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1414440" y="5562720"/>
            <a:ext cx="712008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price      </a:t>
            </a:r>
            <a:r>
              <a:rPr b="0" lang="en-US" sz="1300" spc="-1" strike="noStrike">
                <a:solidFill>
                  <a:srgbClr val="003366"/>
                </a:solidFill>
                <a:latin typeface="Courier New"/>
              </a:rPr>
              <a:t>15 19 16 17 15 13 5 8 7 13 11 14 10 5 2 </a:t>
            </a:r>
            <a:r>
              <a:rPr b="0" lang="pt-BR" sz="1300" spc="-1" strike="noStrike">
                <a:solidFill>
                  <a:srgbClr val="003366"/>
                </a:solidFill>
                <a:latin typeface="Courier New"/>
              </a:rPr>
              <a:t>5</a:t>
            </a:r>
            <a:endParaRPr b="0" lang="en-US" sz="13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404" name=""/>
          <p:cNvGraphicFramePr/>
          <p:nvPr/>
        </p:nvGraphicFramePr>
        <p:xfrm>
          <a:off x="2209680" y="3408480"/>
          <a:ext cx="4876920" cy="200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3408480"/>
                    <a:ext cx="4876920" cy="200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6" name=""/>
          <p:cNvSpPr/>
          <p:nvPr/>
        </p:nvSpPr>
        <p:spPr>
          <a:xfrm>
            <a:off x="455040" y="2265480"/>
            <a:ext cx="8570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Garamond"/>
              </a:rPr>
              <a:t>Find the best profit one could make by buying a stock and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Garamond"/>
              </a:rPr>
              <a:t>selling it later in the same day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Garamond"/>
              </a:rPr>
              <a:t>Emotive Query</a:t>
            </a: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1414440" y="5562360"/>
            <a:ext cx="71200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price      </a:t>
            </a:r>
            <a:r>
              <a:rPr b="0" lang="en-US" sz="1300" spc="-1" strike="noStrike">
                <a:solidFill>
                  <a:srgbClr val="003366"/>
                </a:solidFill>
                <a:latin typeface="Courier New"/>
              </a:rPr>
              <a:t>15 19 16 17 15 13 5 8 7 13 11 14 10 5 2 </a:t>
            </a:r>
            <a:r>
              <a:rPr b="0" lang="pt-BR" sz="1300" spc="-1" strike="noStrike">
                <a:solidFill>
                  <a:srgbClr val="003366"/>
                </a:solidFill>
                <a:latin typeface="Courier New"/>
              </a:rPr>
              <a:t>5</a:t>
            </a:r>
            <a:endParaRPr b="0" lang="en-US" sz="13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mins(price)</a:t>
            </a:r>
            <a:r>
              <a:rPr b="0" lang="pt-BR" sz="1300" spc="-1" strike="noStrike">
                <a:solidFill>
                  <a:srgbClr val="003366"/>
                </a:solidFill>
                <a:latin typeface="Courier New"/>
              </a:rPr>
              <a:t>15 15 15 15 15 13 5 5 5  5  5  5  5 5 2 2</a:t>
            </a:r>
            <a:endParaRPr b="0" lang="en-US" sz="13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           </a:t>
            </a:r>
            <a:r>
              <a:rPr b="0" lang="pt-BR" sz="1300" spc="-1" strike="noStrike">
                <a:solidFill>
                  <a:srgbClr val="003366"/>
                </a:solidFill>
                <a:latin typeface="Courier New"/>
              </a:rPr>
              <a:t>0  4  1  2  0  0  0 3 2  8  6  9  0 0 0 3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409" name=""/>
          <p:cNvGraphicFramePr/>
          <p:nvPr/>
        </p:nvGraphicFramePr>
        <p:xfrm>
          <a:off x="2286000" y="3352680"/>
          <a:ext cx="4853160" cy="1994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3352680"/>
                    <a:ext cx="4853160" cy="199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1" name=""/>
          <p:cNvSpPr/>
          <p:nvPr/>
        </p:nvSpPr>
        <p:spPr>
          <a:xfrm>
            <a:off x="1295280" y="6172200"/>
            <a:ext cx="66294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715000" y="5486400"/>
            <a:ext cx="380880" cy="990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455040" y="2265480"/>
            <a:ext cx="8570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Garamond"/>
              </a:rPr>
              <a:t>Find the best profit one could make by buying a stock and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Garamond"/>
              </a:rPr>
              <a:t>selling it later in the same day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Garamond"/>
              </a:rPr>
              <a:t>Best-profit </a:t>
            </a:r>
            <a:r>
              <a:rPr b="0" lang="pt-BR" sz="4400" spc="-1" strike="noStrike">
                <a:solidFill>
                  <a:srgbClr val="003366"/>
                </a:solidFill>
                <a:latin typeface="Garamond"/>
              </a:rPr>
              <a:t>Q</a:t>
            </a:r>
            <a:r>
              <a:rPr b="0" lang="en-US" sz="4400" spc="-1" strike="noStrike">
                <a:solidFill>
                  <a:srgbClr val="003366"/>
                </a:solidFill>
                <a:latin typeface="Garamond"/>
              </a:rPr>
              <a:t>uery </a:t>
            </a:r>
            <a:r>
              <a:rPr b="0" lang="pt-BR" sz="4400" spc="-1" strike="noStrike">
                <a:solidFill>
                  <a:srgbClr val="003366"/>
                </a:solidFill>
                <a:latin typeface="Garamond"/>
              </a:rPr>
              <a:t>C</a:t>
            </a:r>
            <a:r>
              <a:rPr b="0" lang="en-US" sz="4400" spc="-1" strike="noStrike">
                <a:solidFill>
                  <a:srgbClr val="003366"/>
                </a:solidFill>
                <a:latin typeface="Garamond"/>
              </a:rPr>
              <a:t>omparison</a:t>
            </a: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809280" y="2214360"/>
            <a:ext cx="3900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[AQuery]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SELECT max(price–mins(price))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FROM   ticks</a:t>
            </a:r>
            <a:br>
              <a:rPr sz="1600"/>
            </a:b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    ASSUMING timestamp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WHERE  ID=“S”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AND  tradeDate=‘1/10/03'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867200" y="2214360"/>
            <a:ext cx="4276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[SQL:1999]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SELECT max(rdif)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FROM   (SELECT ID,tradeDate,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price - min(price)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          </a:t>
            </a: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OVER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          </a:t>
            </a: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(PARTITION BY ID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,</a:t>
            </a:r>
            <a:br>
              <a:rPr sz="1600"/>
            </a:b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                     tradeDate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           </a:t>
            </a: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ORDER BY timestamp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           </a:t>
            </a: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ROWS UNBOUNDED 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           </a:t>
            </a: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PRECEDING) AS rdif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FROM   Ticks ) AS t1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WHERE   ID=“S”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AND   tradeDate=‘1/10/03'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1066680" y="5105520"/>
            <a:ext cx="2438640" cy="990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33328" y="8827"/>
                </a:moveTo>
                <a:lnTo>
                  <a:pt x="22275" y="2492"/>
                </a:lnTo>
              </a:path>
              <a:path w="21600" h="21600">
                <a:moveTo>
                  <a:pt x="22275" y="0"/>
                </a:moveTo>
                <a:lnTo>
                  <a:pt x="22275" y="21600"/>
                </a:lnTo>
              </a:path>
            </a:pathLst>
          </a:cu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3366"/>
                </a:solidFill>
                <a:latin typeface="Times New Roman"/>
              </a:rPr>
              <a:t>Optimizer doesn’t</a:t>
            </a:r>
            <a:br>
              <a:rPr sz="1400"/>
            </a:br>
            <a:r>
              <a:rPr b="0" lang="pt-BR" sz="1400" spc="-1" strike="noStrike">
                <a:solidFill>
                  <a:srgbClr val="003366"/>
                </a:solidFill>
                <a:latin typeface="Times New Roman"/>
              </a:rPr>
              <a:t>push this selection. To get good performance, the query author has to rewrite it.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Garamond"/>
              </a:rPr>
              <a:t>Best-profit Query Performance</a:t>
            </a: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graphicFrame>
        <p:nvGraphicFramePr>
          <p:cNvPr id="419" name=""/>
          <p:cNvGraphicFramePr/>
          <p:nvPr/>
        </p:nvGraphicFramePr>
        <p:xfrm>
          <a:off x="1600200" y="2357280"/>
          <a:ext cx="6705720" cy="3346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2357280"/>
                    <a:ext cx="6705720" cy="334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Garamond"/>
              </a:rPr>
              <a:t>Complex queries: </a:t>
            </a:r>
            <a:r>
              <a:rPr b="0" lang="pt-BR" sz="4000" spc="-1" strike="noStrike">
                <a:solidFill>
                  <a:srgbClr val="003366"/>
                </a:solidFill>
                <a:latin typeface="Garamond"/>
              </a:rPr>
              <a:t>Network </a:t>
            </a:r>
            <a:br>
              <a:rPr sz="4000"/>
            </a:br>
            <a:r>
              <a:rPr b="0" lang="pt-BR" sz="4000" spc="-1" strike="noStrike">
                <a:solidFill>
                  <a:srgbClr val="003366"/>
                </a:solidFill>
                <a:latin typeface="Garamond"/>
              </a:rPr>
              <a:t>Management Query</a:t>
            </a:r>
            <a:r>
              <a:rPr b="0" lang="en-US" sz="4000" spc="-1" strike="noStrike">
                <a:solidFill>
                  <a:srgbClr val="003366"/>
                </a:solidFill>
                <a:latin typeface="Garamond"/>
              </a:rPr>
              <a:t> Revisited</a:t>
            </a:r>
            <a:endParaRPr b="0" lang="en-US" sz="40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809280" y="2214360"/>
            <a:ext cx="39020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Times New Roman"/>
              </a:rPr>
              <a:t>Create a log of flow information. A flow from src to dest ends after a 2-minutes silence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85800" y="5105520"/>
            <a:ext cx="80010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SELECT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src, dst, count(*), avg(len)</a:t>
            </a:r>
            <a:br>
              <a:rPr sz="1600"/>
            </a:b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FROM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Packet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ASSUMING ORDER src, dst, time </a:t>
            </a:r>
            <a:br>
              <a:rPr sz="1600"/>
            </a:b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GROUP  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BY src, dst, sums (deltas(time) &gt; 120)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4724280" y="2421000"/>
            <a:ext cx="4267440" cy="24588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7017480" y="2362320"/>
            <a:ext cx="564840" cy="6426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dest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...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6332400" y="2362320"/>
            <a:ext cx="513000" cy="6426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src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...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5715000" y="2362320"/>
            <a:ext cx="476280" cy="61164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3366"/>
                </a:solidFill>
                <a:latin typeface="Arial Narrow"/>
              </a:rPr>
              <a:t>pID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...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4747680" y="2362320"/>
            <a:ext cx="88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Packets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7733520" y="2362320"/>
            <a:ext cx="450360" cy="6426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len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...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368560" y="2362320"/>
            <a:ext cx="564840" cy="6426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time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...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3366"/>
                </a:solidFill>
                <a:latin typeface="Garamond"/>
              </a:rPr>
              <a:t>Network Management Query</a:t>
            </a:r>
            <a:r>
              <a:rPr b="0" lang="en-US" sz="4000" spc="-1" strike="noStrike">
                <a:solidFill>
                  <a:srgbClr val="003366"/>
                </a:solidFill>
                <a:latin typeface="Garamond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003366"/>
                </a:solidFill>
                <a:latin typeface="Garamond"/>
              </a:rPr>
              <a:t>in Pictures</a:t>
            </a:r>
            <a:endParaRPr b="0" lang="en-US" sz="40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432" name=""/>
          <p:cNvSpPr/>
          <p:nvPr/>
        </p:nvSpPr>
        <p:spPr>
          <a:xfrm>
            <a:off x="706320" y="2421000"/>
            <a:ext cx="3484800" cy="24588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466440" y="2362320"/>
            <a:ext cx="56484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time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2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47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4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5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5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184840" y="2362320"/>
            <a:ext cx="51300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dst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1565280" y="2362320"/>
            <a:ext cx="47628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src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613800" y="2362320"/>
            <a:ext cx="88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Packets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685800" y="5105520"/>
            <a:ext cx="80010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SELECT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src, dst, count(*), avg(len)</a:t>
            </a:r>
            <a:br>
              <a:rPr sz="1600"/>
            </a:b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FROM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Packet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ASSUMING ORDER src, dst, time </a:t>
            </a:r>
            <a:br>
              <a:rPr sz="1600"/>
            </a:b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GROUP  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BY src, dst, sums (deltas(time) &gt; 120)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838240" y="2362320"/>
            <a:ext cx="50220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len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25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27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33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23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28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30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Garamond"/>
              </a:rPr>
              <a:t>Motivation</a:t>
            </a:r>
            <a:br>
              <a:rPr sz="4400"/>
            </a:br>
            <a:r>
              <a:rPr b="0" lang="en-US" sz="4400" spc="-1" strike="noStrike">
                <a:solidFill>
                  <a:srgbClr val="003366"/>
                </a:solidFill>
                <a:latin typeface="Garamond"/>
              </a:rPr>
              <a:t>The need for ordered data</a:t>
            </a: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Queries in Finance, Biology, and Network Management depend on order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QL 99 has extensions</a:t>
            </a:r>
            <a:r>
              <a:rPr b="0" lang="pt-BR" sz="3200" spc="-1" strike="noStrike">
                <a:solidFill>
                  <a:srgbClr val="003366"/>
                </a:solidFill>
                <a:latin typeface="Times New Roman"/>
              </a:rPr>
              <a:t> –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e OLAP amendment – that incorporate order to the language but they are clumsy to use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3366"/>
                </a:solidFill>
                <a:latin typeface="Garamond"/>
              </a:rPr>
              <a:t>Network Management Query</a:t>
            </a:r>
            <a:r>
              <a:rPr b="0" lang="en-US" sz="4000" spc="-1" strike="noStrike">
                <a:solidFill>
                  <a:srgbClr val="003366"/>
                </a:solidFill>
                <a:latin typeface="Garamond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003366"/>
                </a:solidFill>
                <a:latin typeface="Garamond"/>
              </a:rPr>
              <a:t>in Pictures</a:t>
            </a:r>
            <a:endParaRPr b="0" lang="en-US" sz="40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440" name=""/>
          <p:cNvSpPr/>
          <p:nvPr/>
        </p:nvSpPr>
        <p:spPr>
          <a:xfrm>
            <a:off x="706320" y="2421000"/>
            <a:ext cx="3484800" cy="24588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466440" y="2362320"/>
            <a:ext cx="56484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time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2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47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4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5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5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2184840" y="2362320"/>
            <a:ext cx="51300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dst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65280" y="2362320"/>
            <a:ext cx="47628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src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613800" y="2362320"/>
            <a:ext cx="88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Packets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724280" y="2421000"/>
            <a:ext cx="3505320" cy="24588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7504920" y="2362320"/>
            <a:ext cx="56484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time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2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4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47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5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5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6202800" y="2362320"/>
            <a:ext cx="51300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dst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583240" y="2362320"/>
            <a:ext cx="47628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src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631760" y="2362320"/>
            <a:ext cx="88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Packets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685800" y="5105520"/>
            <a:ext cx="80010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SELECT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src, dst, count(*), avg(len)</a:t>
            </a:r>
            <a:br>
              <a:rPr sz="1600"/>
            </a:b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FROM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Packet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1" lang="pt-BR" sz="1600" spc="-1" strike="noStrike">
                <a:solidFill>
                  <a:srgbClr val="ff0000"/>
                </a:solidFill>
                <a:latin typeface="Courier New"/>
              </a:rPr>
              <a:t>ASSUMING ORDER src, dst, time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 </a:t>
            </a:r>
            <a:br>
              <a:rPr sz="1600"/>
            </a:b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GROUP  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BY src, dst, sums (deltas(time) &gt; 120)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2838240" y="2362320"/>
            <a:ext cx="50220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len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25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27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33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23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28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30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865560" y="2362320"/>
            <a:ext cx="50220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len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25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27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23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33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28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30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3366"/>
                </a:solidFill>
                <a:latin typeface="Garamond"/>
              </a:rPr>
              <a:t>Network Management Query</a:t>
            </a:r>
            <a:r>
              <a:rPr b="0" lang="en-US" sz="4000" spc="-1" strike="noStrike">
                <a:solidFill>
                  <a:srgbClr val="003366"/>
                </a:solidFill>
                <a:latin typeface="Garamond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003366"/>
                </a:solidFill>
                <a:latin typeface="Garamond"/>
              </a:rPr>
              <a:t>in Pictures</a:t>
            </a:r>
            <a:endParaRPr b="0" lang="en-US" sz="40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454" name=""/>
          <p:cNvSpPr/>
          <p:nvPr/>
        </p:nvSpPr>
        <p:spPr>
          <a:xfrm>
            <a:off x="706320" y="2421000"/>
            <a:ext cx="3484800" cy="24588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466440" y="2362320"/>
            <a:ext cx="56484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time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2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4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47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5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5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2184840" y="2362320"/>
            <a:ext cx="51300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dst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1565280" y="2362320"/>
            <a:ext cx="47628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src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613800" y="2362320"/>
            <a:ext cx="88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Packets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85800" y="5105520"/>
            <a:ext cx="80010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SELECT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src, dst, count(*), avg(len)</a:t>
            </a:r>
            <a:br>
              <a:rPr sz="1600"/>
            </a:b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FROM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Packet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ASSUMING ORDER src, dst, time </a:t>
            </a:r>
            <a:br>
              <a:rPr sz="1600"/>
            </a:b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GROUP  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BY src, dst, sums (</a:t>
            </a:r>
            <a:r>
              <a:rPr b="1" lang="pt-BR" sz="1600" spc="-1" strike="noStrike">
                <a:solidFill>
                  <a:srgbClr val="ff0000"/>
                </a:solidFill>
                <a:latin typeface="Courier New"/>
              </a:rPr>
              <a:t>deltas(time) &gt; 120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)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2838240" y="2362320"/>
            <a:ext cx="50220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len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25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27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23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33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28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30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4252680" y="2362320"/>
            <a:ext cx="38808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c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F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F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T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F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F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F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3366"/>
                </a:solidFill>
                <a:latin typeface="Garamond"/>
              </a:rPr>
              <a:t>Network Management Query</a:t>
            </a:r>
            <a:r>
              <a:rPr b="0" lang="en-US" sz="4000" spc="-1" strike="noStrike">
                <a:solidFill>
                  <a:srgbClr val="003366"/>
                </a:solidFill>
                <a:latin typeface="Garamond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003366"/>
                </a:solidFill>
                <a:latin typeface="Garamond"/>
              </a:rPr>
              <a:t>in Pictures</a:t>
            </a:r>
            <a:endParaRPr b="0" lang="en-US" sz="40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463" name=""/>
          <p:cNvSpPr/>
          <p:nvPr/>
        </p:nvSpPr>
        <p:spPr>
          <a:xfrm>
            <a:off x="706320" y="2421000"/>
            <a:ext cx="3484800" cy="24588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3466440" y="2362320"/>
            <a:ext cx="56484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time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2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4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47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5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5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2184840" y="2362320"/>
            <a:ext cx="51300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dst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1565280" y="2362320"/>
            <a:ext cx="47628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src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613800" y="2362320"/>
            <a:ext cx="88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Packets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685800" y="5105520"/>
            <a:ext cx="80010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SELECT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src, dst, count(*), avg(len)</a:t>
            </a:r>
            <a:br>
              <a:rPr sz="1600"/>
            </a:b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FROM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Packet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ASSUMING ORDER src, dst, time </a:t>
            </a:r>
            <a:br>
              <a:rPr sz="1600"/>
            </a:b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GROUP  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BY src, dst, </a:t>
            </a:r>
            <a:r>
              <a:rPr b="1" lang="pt-BR" sz="1600" spc="-1" strike="noStrike">
                <a:solidFill>
                  <a:srgbClr val="ff0000"/>
                </a:solidFill>
                <a:latin typeface="Courier New"/>
              </a:rPr>
              <a:t>sums (deltas(time) &gt; 120</a:t>
            </a:r>
            <a:r>
              <a:rPr b="0" lang="pt-BR" sz="1600" spc="-1" strike="noStrike">
                <a:solidFill>
                  <a:srgbClr val="ff0000"/>
                </a:solidFill>
                <a:latin typeface="Courier New"/>
              </a:rPr>
              <a:t>)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2838240" y="2362320"/>
            <a:ext cx="50220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len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25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27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23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33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28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30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4252680" y="2362320"/>
            <a:ext cx="38808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c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F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F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T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F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F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F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4808160" y="2362320"/>
            <a:ext cx="38808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c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3366"/>
                </a:solidFill>
                <a:latin typeface="Garamond"/>
              </a:rPr>
              <a:t>Network Management Query</a:t>
            </a:r>
            <a:r>
              <a:rPr b="0" lang="en-US" sz="4000" spc="-1" strike="noStrike">
                <a:solidFill>
                  <a:srgbClr val="003366"/>
                </a:solidFill>
                <a:latin typeface="Garamond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003366"/>
                </a:solidFill>
                <a:latin typeface="Garamond"/>
              </a:rPr>
              <a:t>in Pictures</a:t>
            </a:r>
            <a:endParaRPr b="0" lang="en-US" sz="40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473" name=""/>
          <p:cNvSpPr/>
          <p:nvPr/>
        </p:nvSpPr>
        <p:spPr>
          <a:xfrm>
            <a:off x="706320" y="2421000"/>
            <a:ext cx="3484800" cy="24588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3466440" y="2362320"/>
            <a:ext cx="56484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time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2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4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47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5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5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2184840" y="2362320"/>
            <a:ext cx="51300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dst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1565280" y="2362320"/>
            <a:ext cx="47628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src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613800" y="2362320"/>
            <a:ext cx="88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Packets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85800" y="5105520"/>
            <a:ext cx="80010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SELECT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src, dst, count(*), avg(len)</a:t>
            </a:r>
            <a:br>
              <a:rPr sz="1600"/>
            </a:b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FROM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Packet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ASSUMING ORDER src, dst, time </a:t>
            </a:r>
            <a:br>
              <a:rPr sz="1600"/>
            </a:b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GROUP  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BY </a:t>
            </a:r>
            <a:r>
              <a:rPr b="1" lang="pt-BR" sz="1600" spc="-1" strike="noStrike">
                <a:solidFill>
                  <a:srgbClr val="ff0000"/>
                </a:solidFill>
                <a:latin typeface="Courier New"/>
              </a:rPr>
              <a:t>src, dst, sums (deltas(time) &gt; 120)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2838240" y="2362320"/>
            <a:ext cx="50220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len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25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27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23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33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28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30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252680" y="2362320"/>
            <a:ext cx="38808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c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F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F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T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F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F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F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4808160" y="2362320"/>
            <a:ext cx="38808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c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1447920" y="2743200"/>
            <a:ext cx="75960" cy="457200"/>
          </a:xfrm>
          <a:custGeom>
            <a:avLst/>
            <a:gdLst>
              <a:gd name="textAreaLeft" fmla="*/ 48600 w 75960"/>
              <a:gd name="textAreaRight" fmla="*/ 76320 w 7596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1447920" y="3276720"/>
            <a:ext cx="75960" cy="228600"/>
          </a:xfrm>
          <a:custGeom>
            <a:avLst/>
            <a:gdLst>
              <a:gd name="textAreaLeft" fmla="*/ 48600 w 75960"/>
              <a:gd name="textAreaRight" fmla="*/ 76320 w 75960"/>
              <a:gd name="textAreaTop" fmla="*/ 5760 h 228600"/>
              <a:gd name="textAreaBottom" fmla="*/ 22284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1447920" y="3581280"/>
            <a:ext cx="75960" cy="762120"/>
          </a:xfrm>
          <a:custGeom>
            <a:avLst/>
            <a:gdLst>
              <a:gd name="textAreaLeft" fmla="*/ 48600 w 75960"/>
              <a:gd name="textAreaRight" fmla="*/ 76320 w 7596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3366"/>
                </a:solidFill>
                <a:latin typeface="Garamond"/>
              </a:rPr>
              <a:t>Network Management Query</a:t>
            </a:r>
            <a:r>
              <a:rPr b="0" lang="en-US" sz="4000" spc="-1" strike="noStrike">
                <a:solidFill>
                  <a:srgbClr val="003366"/>
                </a:solidFill>
                <a:latin typeface="Garamond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003366"/>
                </a:solidFill>
                <a:latin typeface="Garamond"/>
              </a:rPr>
              <a:t>in Pictures</a:t>
            </a:r>
            <a:endParaRPr b="0" lang="en-US" sz="40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486" name=""/>
          <p:cNvSpPr/>
          <p:nvPr/>
        </p:nvSpPr>
        <p:spPr>
          <a:xfrm>
            <a:off x="706320" y="2421000"/>
            <a:ext cx="3484800" cy="24588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3466440" y="2362320"/>
            <a:ext cx="56484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time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2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4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47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5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5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2184840" y="2362320"/>
            <a:ext cx="51300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dst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1565280" y="2362320"/>
            <a:ext cx="47628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src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13800" y="2362320"/>
            <a:ext cx="88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Packets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685800" y="5105520"/>
            <a:ext cx="80010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SELECT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src, dst, count(*), avg(len)</a:t>
            </a:r>
            <a:br>
              <a:rPr sz="1600"/>
            </a:b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FROM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Packet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ASSUMING ORDER src, dst, time </a:t>
            </a:r>
            <a:br>
              <a:rPr sz="1600"/>
            </a:br>
            <a:r>
              <a:rPr b="1" lang="pt-BR" sz="1600" spc="-1" strike="noStrike">
                <a:solidFill>
                  <a:srgbClr val="ff0000"/>
                </a:solidFill>
                <a:latin typeface="Courier New"/>
              </a:rPr>
              <a:t>GROUP  </a:t>
            </a:r>
            <a:r>
              <a:rPr b="1" lang="pt-BR" sz="16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pt-BR" sz="1600" spc="-1" strike="noStrike">
                <a:solidFill>
                  <a:srgbClr val="ff0000"/>
                </a:solidFill>
                <a:latin typeface="Courier New"/>
              </a:rPr>
              <a:t>BY src, dst, sums (deltas(time) &gt; 120)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2838240" y="2362320"/>
            <a:ext cx="50220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len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25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27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23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33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28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30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1447920" y="2743200"/>
            <a:ext cx="75960" cy="457200"/>
          </a:xfrm>
          <a:custGeom>
            <a:avLst/>
            <a:gdLst>
              <a:gd name="textAreaLeft" fmla="*/ 48600 w 75960"/>
              <a:gd name="textAreaRight" fmla="*/ 76320 w 7596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1447920" y="3276720"/>
            <a:ext cx="75960" cy="228600"/>
          </a:xfrm>
          <a:custGeom>
            <a:avLst/>
            <a:gdLst>
              <a:gd name="textAreaLeft" fmla="*/ 48600 w 75960"/>
              <a:gd name="textAreaRight" fmla="*/ 76320 w 75960"/>
              <a:gd name="textAreaTop" fmla="*/ 5760 h 228600"/>
              <a:gd name="textAreaBottom" fmla="*/ 22284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1447920" y="3581280"/>
            <a:ext cx="75960" cy="762120"/>
          </a:xfrm>
          <a:custGeom>
            <a:avLst/>
            <a:gdLst>
              <a:gd name="textAreaLeft" fmla="*/ 48600 w 75960"/>
              <a:gd name="textAreaRight" fmla="*/ 76320 w 7596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4952880" y="2421000"/>
            <a:ext cx="4038840" cy="24588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7766280" y="2362320"/>
            <a:ext cx="1113480" cy="119124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time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,2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4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47,150,15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5766480" y="2362320"/>
            <a:ext cx="513000" cy="119124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dst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5146560" y="2362320"/>
            <a:ext cx="476280" cy="119124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src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6417720" y="2362320"/>
            <a:ext cx="1217160" cy="119124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len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250,27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23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330,280,30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3366"/>
                </a:solidFill>
                <a:latin typeface="Garamond"/>
              </a:rPr>
              <a:t>Network Management Query</a:t>
            </a:r>
            <a:r>
              <a:rPr b="0" lang="en-US" sz="4000" spc="-1" strike="noStrike">
                <a:solidFill>
                  <a:srgbClr val="003366"/>
                </a:solidFill>
                <a:latin typeface="Garamond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003366"/>
                </a:solidFill>
                <a:latin typeface="Garamond"/>
              </a:rPr>
              <a:t>in Pictures</a:t>
            </a:r>
            <a:endParaRPr b="0" lang="en-US" sz="40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502" name=""/>
          <p:cNvSpPr/>
          <p:nvPr/>
        </p:nvSpPr>
        <p:spPr>
          <a:xfrm>
            <a:off x="706320" y="2421000"/>
            <a:ext cx="3484800" cy="24588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466440" y="2362320"/>
            <a:ext cx="56484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time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2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4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47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5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5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2184840" y="2362320"/>
            <a:ext cx="51300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dst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1565280" y="2362320"/>
            <a:ext cx="47628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src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613800" y="2362320"/>
            <a:ext cx="88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Packets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685800" y="5105520"/>
            <a:ext cx="80010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1" lang="pt-BR" sz="1600" spc="-1" strike="noStrike">
                <a:solidFill>
                  <a:srgbClr val="ff0000"/>
                </a:solidFill>
                <a:latin typeface="Courier New"/>
              </a:rPr>
              <a:t>SELECT</a:t>
            </a:r>
            <a:r>
              <a:rPr b="1" lang="pt-BR" sz="16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pt-BR" sz="1600" spc="-1" strike="noStrike">
                <a:solidFill>
                  <a:srgbClr val="ff0000"/>
                </a:solidFill>
                <a:latin typeface="Courier New"/>
              </a:rPr>
              <a:t>src, dst, count(*), avg(len)</a:t>
            </a:r>
            <a:br>
              <a:rPr sz="1600"/>
            </a:b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FROM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Packet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ASSUMING ORDER src, dst, time </a:t>
            </a:r>
            <a:br>
              <a:rPr sz="1600"/>
            </a:b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GROUP  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BY src, dst, sums (deltas(time) &gt; 120)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2838240" y="2362320"/>
            <a:ext cx="50220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len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25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27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23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33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28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30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1447920" y="2743200"/>
            <a:ext cx="75960" cy="457200"/>
          </a:xfrm>
          <a:custGeom>
            <a:avLst/>
            <a:gdLst>
              <a:gd name="textAreaLeft" fmla="*/ 48600 w 75960"/>
              <a:gd name="textAreaRight" fmla="*/ 76320 w 7596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1447920" y="3276720"/>
            <a:ext cx="75960" cy="228600"/>
          </a:xfrm>
          <a:custGeom>
            <a:avLst/>
            <a:gdLst>
              <a:gd name="textAreaLeft" fmla="*/ 48600 w 75960"/>
              <a:gd name="textAreaRight" fmla="*/ 76320 w 75960"/>
              <a:gd name="textAreaTop" fmla="*/ 5760 h 228600"/>
              <a:gd name="textAreaBottom" fmla="*/ 22284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1447920" y="3581280"/>
            <a:ext cx="75960" cy="762120"/>
          </a:xfrm>
          <a:custGeom>
            <a:avLst/>
            <a:gdLst>
              <a:gd name="textAreaLeft" fmla="*/ 48600 w 75960"/>
              <a:gd name="textAreaRight" fmla="*/ 76320 w 7596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4952880" y="2421000"/>
            <a:ext cx="4038840" cy="24588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766280" y="2362320"/>
            <a:ext cx="1113480" cy="119124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time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,2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4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47,150,15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5766480" y="2362320"/>
            <a:ext cx="513000" cy="119124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dst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5146560" y="2362320"/>
            <a:ext cx="476280" cy="119124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src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6417720" y="2362320"/>
            <a:ext cx="1217160" cy="119124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len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250,27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23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330,280,30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4952880" y="3868560"/>
            <a:ext cx="4038840" cy="24624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878600" y="3809880"/>
            <a:ext cx="887760" cy="119124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count(*)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3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5766480" y="3809880"/>
            <a:ext cx="513000" cy="119124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dst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5146560" y="3809880"/>
            <a:ext cx="476280" cy="119124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src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6550200" y="3809880"/>
            <a:ext cx="948960" cy="119124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avg(len)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26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23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30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3366"/>
                </a:solidFill>
                <a:latin typeface="Garamond"/>
              </a:rPr>
              <a:t>Network Management Query</a:t>
            </a:r>
            <a:r>
              <a:rPr b="0" lang="en-US" sz="4000" spc="-1" strike="noStrike">
                <a:solidFill>
                  <a:srgbClr val="003366"/>
                </a:solidFill>
                <a:latin typeface="Garamond"/>
              </a:rPr>
              <a:t> </a:t>
            </a:r>
            <a:r>
              <a:rPr b="0" lang="pt-BR" sz="4000" spc="-1" strike="noStrike">
                <a:solidFill>
                  <a:srgbClr val="003366"/>
                </a:solidFill>
                <a:latin typeface="Garamond"/>
              </a:rPr>
              <a:t>Performance</a:t>
            </a:r>
            <a:endParaRPr b="0" lang="en-US" sz="4000" spc="-1" strike="noStrike">
              <a:solidFill>
                <a:srgbClr val="003366"/>
              </a:solidFill>
              <a:latin typeface="Garamond"/>
            </a:endParaRPr>
          </a:p>
        </p:txBody>
      </p:sp>
      <p:graphicFrame>
        <p:nvGraphicFramePr>
          <p:cNvPr id="523" name=""/>
          <p:cNvGraphicFramePr/>
          <p:nvPr/>
        </p:nvGraphicFramePr>
        <p:xfrm>
          <a:off x="4005360" y="3343320"/>
          <a:ext cx="1135080" cy="166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05360" y="3343320"/>
                    <a:ext cx="1135080" cy="1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5" name=""/>
          <p:cNvGraphicFramePr/>
          <p:nvPr/>
        </p:nvGraphicFramePr>
        <p:xfrm>
          <a:off x="1633680" y="2428920"/>
          <a:ext cx="6111720" cy="30970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52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33680" y="2428920"/>
                    <a:ext cx="6111720" cy="309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Garamond"/>
              </a:rPr>
              <a:t>Order-aware Query Languages</a:t>
            </a: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528" name=""/>
          <p:cNvSpPr/>
          <p:nvPr/>
        </p:nvSpPr>
        <p:spPr>
          <a:xfrm>
            <a:off x="106668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Times New Roman"/>
              </a:rPr>
              <a:t>Relations,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Sequences</a:t>
            </a:r>
            <a:r>
              <a:rPr b="0" lang="pt-BR" sz="2800" spc="-1" strike="noStrike">
                <a:solidFill>
                  <a:srgbClr val="003366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 and ordered-relation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SQL:1999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Sequin (Seshadri et al., 96)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SRQL (Ramakrishnan et al., 98)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Grouping in SQL (Chatziantoniou and Ross, 96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Array query language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AQL (Libkin et al., 96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AML (Marathe and Salem, 97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RaSQL (Widmann and Baumann, 98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KSQL (KX Systems) – our direct ancestor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Garamond"/>
              </a:rPr>
              <a:t>Order-related </a:t>
            </a:r>
            <a:br>
              <a:rPr sz="4400"/>
            </a:br>
            <a:r>
              <a:rPr b="0" lang="pt-BR" sz="4400" spc="-1" strike="noStrike">
                <a:solidFill>
                  <a:srgbClr val="003366"/>
                </a:solidFill>
                <a:latin typeface="Garamond"/>
              </a:rPr>
              <a:t>O</a:t>
            </a:r>
            <a:r>
              <a:rPr b="0" lang="en-US" sz="4400" spc="-1" strike="noStrike">
                <a:solidFill>
                  <a:srgbClr val="003366"/>
                </a:solidFill>
                <a:latin typeface="Garamond"/>
              </a:rPr>
              <a:t>ptimization </a:t>
            </a:r>
            <a:r>
              <a:rPr b="0" lang="pt-BR" sz="4400" spc="-1" strike="noStrike">
                <a:solidFill>
                  <a:srgbClr val="003366"/>
                </a:solidFill>
                <a:latin typeface="Garamond"/>
              </a:rPr>
              <a:t>T</a:t>
            </a:r>
            <a:r>
              <a:rPr b="0" lang="en-US" sz="4400" spc="-1" strike="noStrike">
                <a:solidFill>
                  <a:srgbClr val="003366"/>
                </a:solidFill>
                <a:latin typeface="Garamond"/>
              </a:rPr>
              <a:t>echniques</a:t>
            </a: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Starburst’s “glue” (Lohman 88) and Exodus/Volcano “Enforcers” (Graefe and McKeena, 93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DB2 Order optimization (Simmens et al., 96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Top-k query optimization (Carey and Kossman, 97</a:t>
            </a:r>
            <a:r>
              <a:rPr b="0" lang="pt-BR" sz="2800" spc="-1" strike="noStrike">
                <a:solidFill>
                  <a:srgbClr val="003366"/>
                </a:solidFill>
                <a:latin typeface="Times New Roman"/>
              </a:rPr>
              <a:t>; Bruno,Chaudhuri, and Gravano 02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Hash-based order-preserving join (Claussen et al., 01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Temporal query optimization addressing order and duplicates (Slivinskas et al., 01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Garamond"/>
              </a:rPr>
              <a:t>AQuery Optimization</a:t>
            </a: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Optimization is cost based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The main strategies are: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Define the extent of the order-preserving region of the plan, considering (correctness, obviously, and) the performance of variation of operator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Exploit algebraic equivalence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Apply efficient implementations of patterns of operators (e.g. “edge-by”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Garamond"/>
              </a:rPr>
              <a:t>3-month moving average: </a:t>
            </a:r>
            <a:br>
              <a:rPr sz="4400"/>
            </a:br>
            <a:r>
              <a:rPr b="0" lang="pt-BR" sz="4400" spc="-1" strike="noStrike">
                <a:solidFill>
                  <a:srgbClr val="003366"/>
                </a:solidFill>
                <a:latin typeface="Garamond"/>
              </a:rPr>
              <a:t>the wrong way</a:t>
            </a: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grpSp>
        <p:nvGrpSpPr>
          <p:cNvPr id="295" name=""/>
          <p:cNvGrpSpPr/>
          <p:nvPr/>
        </p:nvGrpSpPr>
        <p:grpSpPr>
          <a:xfrm>
            <a:off x="844560" y="2327400"/>
            <a:ext cx="2432160" cy="1742760"/>
            <a:chOff x="844560" y="2327400"/>
            <a:chExt cx="2432160" cy="1742760"/>
          </a:xfrm>
        </p:grpSpPr>
        <p:sp>
          <p:nvSpPr>
            <p:cNvPr id="296" name=""/>
            <p:cNvSpPr/>
            <p:nvPr/>
          </p:nvSpPr>
          <p:spPr>
            <a:xfrm>
              <a:off x="844560" y="2327400"/>
              <a:ext cx="2432160" cy="320400"/>
            </a:xfrm>
            <a:prstGeom prst="rect">
              <a:avLst/>
            </a:prstGeom>
            <a:solidFill>
              <a:srgbClr val="cccc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1981080" y="2330280"/>
              <a:ext cx="622800" cy="1739880"/>
            </a:xfrm>
            <a:prstGeom prst="rect">
              <a:avLst/>
            </a:prstGeom>
            <a:noFill/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 </a:t>
              </a:r>
              <a:r>
                <a:rPr b="0" lang="pt-BR" sz="1600" spc="-1" strike="noStrike">
                  <a:solidFill>
                    <a:srgbClr val="003366"/>
                  </a:solidFill>
                  <a:latin typeface="Arial Narrow"/>
                </a:rPr>
                <a:t>sales</a:t>
              </a:r>
              <a:endParaRPr b="0" lang="en-US" sz="16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100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120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140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140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130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620440" y="2330280"/>
              <a:ext cx="650160" cy="1739880"/>
            </a:xfrm>
            <a:prstGeom prst="rect">
              <a:avLst/>
            </a:prstGeom>
            <a:noFill/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 </a:t>
              </a:r>
              <a:r>
                <a:rPr b="0" lang="pt-BR" sz="1600" spc="-1" strike="noStrike">
                  <a:solidFill>
                    <a:srgbClr val="003366"/>
                  </a:solidFill>
                  <a:latin typeface="Arial Narrow"/>
                </a:rPr>
                <a:t>3-avg</a:t>
              </a:r>
              <a:endParaRPr b="0" lang="en-US" sz="16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100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110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120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133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136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270440" y="2330280"/>
              <a:ext cx="695880" cy="1739880"/>
            </a:xfrm>
            <a:prstGeom prst="rect">
              <a:avLst/>
            </a:prstGeom>
            <a:noFill/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 </a:t>
              </a:r>
              <a:r>
                <a:rPr b="0" lang="pt-BR" sz="1600" spc="-1" strike="noStrike">
                  <a:solidFill>
                    <a:srgbClr val="003366"/>
                  </a:solidFill>
                  <a:latin typeface="Arial Narrow"/>
                </a:rPr>
                <a:t>month</a:t>
              </a:r>
              <a:endParaRPr b="0" lang="en-US" sz="16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1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2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3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4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5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00" name=""/>
          <p:cNvSpPr/>
          <p:nvPr/>
        </p:nvSpPr>
        <p:spPr>
          <a:xfrm>
            <a:off x="3740040" y="2362320"/>
            <a:ext cx="4863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SELECT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t1.month,t1.sales,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(t1.sales+t2.sales+t3.sales)/3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FROM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Sales t1, Sales t2, Sales t3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WHERE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t1.month – 1 = t2.month AND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t1.month – 2 = t3.month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591360" y="3933720"/>
            <a:ext cx="189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66"/>
                </a:solidFill>
                <a:latin typeface="Garamond"/>
              </a:rPr>
              <a:t>Problems?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1219320" y="2743200"/>
            <a:ext cx="7320240" cy="2091600"/>
            <a:chOff x="1219320" y="2743200"/>
            <a:chExt cx="7320240" cy="2091600"/>
          </a:xfrm>
        </p:grpSpPr>
        <p:sp>
          <p:nvSpPr>
            <p:cNvPr id="303" name=""/>
            <p:cNvSpPr/>
            <p:nvPr/>
          </p:nvSpPr>
          <p:spPr>
            <a:xfrm flipV="1">
              <a:off x="1219320" y="2743200"/>
              <a:ext cx="2209680" cy="3808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219320" y="2743200"/>
              <a:ext cx="2209680" cy="3808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427560" y="4375080"/>
              <a:ext cx="511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3366"/>
                </a:buClr>
                <a:buFont typeface="Garamond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3366"/>
                  </a:solidFill>
                  <a:latin typeface="Garamond"/>
                </a:rPr>
                <a:t> </a:t>
              </a:r>
              <a:r>
                <a:rPr b="0" lang="pt-BR" sz="2400" spc="-1" strike="noStrike">
                  <a:solidFill>
                    <a:srgbClr val="003366"/>
                  </a:solidFill>
                  <a:latin typeface="Garamond"/>
                </a:rPr>
                <a:t>Join eliminates first two months!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3333240" y="2895480"/>
            <a:ext cx="6046200" cy="2654280"/>
            <a:chOff x="3333240" y="2895480"/>
            <a:chExt cx="6046200" cy="2654280"/>
          </a:xfrm>
        </p:grpSpPr>
        <p:sp>
          <p:nvSpPr>
            <p:cNvPr id="307" name=""/>
            <p:cNvSpPr/>
            <p:nvPr/>
          </p:nvSpPr>
          <p:spPr>
            <a:xfrm>
              <a:off x="4724280" y="2895480"/>
              <a:ext cx="3657600" cy="30492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3333240" y="4724280"/>
              <a:ext cx="6046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3366"/>
                </a:buClr>
                <a:buFont typeface="Garamond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3366"/>
                  </a:solidFill>
                  <a:latin typeface="Garamond"/>
                </a:rPr>
                <a:t> </a:t>
              </a:r>
              <a:r>
                <a:rPr b="0" lang="pt-BR" sz="2400" spc="-1" strike="noStrike">
                  <a:solidFill>
                    <a:srgbClr val="003366"/>
                  </a:solidFill>
                  <a:latin typeface="Garamond"/>
                </a:rPr>
                <a:t>Do we really need a three-way join? 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3366"/>
                </a:buClr>
                <a:buFont typeface="Garamond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3366"/>
                  </a:solidFill>
                  <a:latin typeface="Garamond"/>
                </a:rPr>
                <a:t> </a:t>
              </a:r>
              <a:r>
                <a:rPr b="0" lang="pt-BR" sz="2400" spc="-1" strike="noStrike">
                  <a:solidFill>
                    <a:srgbClr val="003366"/>
                  </a:solidFill>
                  <a:latin typeface="Garamond"/>
                </a:rPr>
                <a:t>Can the optimizer make it linear-time? 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762120" y="2192400"/>
            <a:ext cx="7848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ourier New"/>
              </a:rPr>
              <a:t>SELECT ts.ID, avgs(10, hq.ClosePrice)</a:t>
            </a:r>
            <a:br>
              <a:rPr sz="1800"/>
            </a:br>
            <a:r>
              <a:rPr b="0" lang="en-US" sz="1800" spc="-1" strike="noStrike">
                <a:solidFill>
                  <a:srgbClr val="003366"/>
                </a:solidFill>
                <a:latin typeface="Courier New"/>
              </a:rPr>
              <a:t>FROM   TradedStocks AS ts NATURAL JOIN </a:t>
            </a:r>
            <a:br>
              <a:rPr sz="1800"/>
            </a:br>
            <a:r>
              <a:rPr b="0" lang="en-US" sz="1800" spc="-1" strike="noStrike">
                <a:solidFill>
                  <a:srgbClr val="003366"/>
                </a:solidFill>
                <a:latin typeface="Courier New"/>
              </a:rPr>
              <a:t>       HistoricQuotes AS hq </a:t>
            </a:r>
            <a:br>
              <a:rPr sz="1800"/>
            </a:br>
            <a:r>
              <a:rPr b="0" lang="en-US" sz="1800" spc="-1" strike="noStrike">
                <a:solidFill>
                  <a:srgbClr val="003366"/>
                </a:solidFill>
                <a:latin typeface="Courier New"/>
              </a:rPr>
              <a:t>       ASSUMING ORDER hq.TradeDate</a:t>
            </a:r>
            <a:br>
              <a:rPr sz="1800"/>
            </a:br>
            <a:r>
              <a:rPr b="0" lang="en-US" sz="1800" spc="-1" strike="noStrike">
                <a:solidFill>
                  <a:srgbClr val="003366"/>
                </a:solidFill>
                <a:latin typeface="Courier New"/>
              </a:rPr>
              <a:t>GROUP  BY Id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Garamond"/>
              </a:rPr>
              <a:t>Interchange sorting + order preserving operators</a:t>
            </a: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535" name=""/>
          <p:cNvSpPr/>
          <p:nvPr/>
        </p:nvSpPr>
        <p:spPr>
          <a:xfrm>
            <a:off x="528840" y="5764320"/>
            <a:ext cx="1931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(1) Sort then join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preserving order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2417400" y="5780160"/>
            <a:ext cx="2291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(2) Preserve existing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order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4852800" y="5780160"/>
            <a:ext cx="1918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(3) Join then sort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before grouping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1797120" y="5410080"/>
            <a:ext cx="75960" cy="38124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958680" y="5334120"/>
            <a:ext cx="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1339920" y="4876560"/>
            <a:ext cx="75960" cy="7596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 flipV="1">
            <a:off x="1035000" y="5333760"/>
            <a:ext cx="76320" cy="7596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882720" y="5410080"/>
            <a:ext cx="75960" cy="38124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1644480" y="4876920"/>
            <a:ext cx="152640" cy="4572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 flipV="1">
            <a:off x="1568520" y="4419360"/>
            <a:ext cx="0" cy="7596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 flipV="1">
            <a:off x="1568520" y="3962160"/>
            <a:ext cx="0" cy="7596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 flipV="1">
            <a:off x="3618000" y="4892400"/>
            <a:ext cx="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4038480" y="5410080"/>
            <a:ext cx="76320" cy="38124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3124080" y="5410080"/>
            <a:ext cx="76320" cy="38124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 flipH="1" flipV="1">
            <a:off x="3809880" y="5333760"/>
            <a:ext cx="76320" cy="7596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 flipV="1">
            <a:off x="5900760" y="4906800"/>
            <a:ext cx="0" cy="15264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6321600" y="5410080"/>
            <a:ext cx="75960" cy="38124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 flipV="1">
            <a:off x="5559480" y="5333760"/>
            <a:ext cx="76320" cy="7596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5407200" y="5410080"/>
            <a:ext cx="75960" cy="38124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 flipH="1" flipV="1">
            <a:off x="6092640" y="5333760"/>
            <a:ext cx="75960" cy="7596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946920" y="5780160"/>
            <a:ext cx="1918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(4) Join then sort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after grouping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 flipV="1">
            <a:off x="7994520" y="4906800"/>
            <a:ext cx="0" cy="15264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8415360" y="5410080"/>
            <a:ext cx="76320" cy="38124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 flipV="1">
            <a:off x="7653240" y="5333760"/>
            <a:ext cx="76320" cy="7596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7500960" y="5410080"/>
            <a:ext cx="76320" cy="38124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 flipH="1" flipV="1">
            <a:off x="8186760" y="5333760"/>
            <a:ext cx="76320" cy="7596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 flipV="1">
            <a:off x="8001000" y="4343040"/>
            <a:ext cx="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1372680" y="358128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1635480" y="3699000"/>
            <a:ext cx="622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avgs(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482640" y="403848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3761280" y="4156200"/>
            <a:ext cx="622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avgs(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5768640" y="350532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6047280" y="3622680"/>
            <a:ext cx="622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avgs(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7826040" y="350532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8104680" y="3622680"/>
            <a:ext cx="622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avgs(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914400" y="4876920"/>
            <a:ext cx="56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sort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5638680" y="4495680"/>
            <a:ext cx="56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sort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7696080" y="3962520"/>
            <a:ext cx="56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sort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 flipV="1">
            <a:off x="1371600" y="4571640"/>
            <a:ext cx="30492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 flipH="1" flipV="1">
            <a:off x="1371240" y="4571640"/>
            <a:ext cx="30492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1676520" y="4572000"/>
            <a:ext cx="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1371600" y="4572000"/>
            <a:ext cx="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 flipV="1">
            <a:off x="1523880" y="4419360"/>
            <a:ext cx="0" cy="7596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 flipV="1">
            <a:off x="1523880" y="3962160"/>
            <a:ext cx="0" cy="7596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 flipV="1">
            <a:off x="1295280" y="4876560"/>
            <a:ext cx="76320" cy="7596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V="1">
            <a:off x="3581280" y="4890960"/>
            <a:ext cx="0" cy="15264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 flipV="1">
            <a:off x="3657600" y="4420800"/>
            <a:ext cx="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 flipV="1">
            <a:off x="3621240" y="4419360"/>
            <a:ext cx="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 flipV="1">
            <a:off x="3429000" y="5105160"/>
            <a:ext cx="30492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 flipH="1" flipV="1">
            <a:off x="3428640" y="5105160"/>
            <a:ext cx="30492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3733920" y="5105520"/>
            <a:ext cx="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3429000" y="5105520"/>
            <a:ext cx="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 flipV="1">
            <a:off x="5715000" y="5105160"/>
            <a:ext cx="30492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 flipH="1" flipV="1">
            <a:off x="5714640" y="5105160"/>
            <a:ext cx="30492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6019920" y="5105520"/>
            <a:ext cx="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5715000" y="5105520"/>
            <a:ext cx="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V="1">
            <a:off x="5943600" y="4420800"/>
            <a:ext cx="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 flipV="1">
            <a:off x="5907240" y="4419360"/>
            <a:ext cx="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 flipV="1">
            <a:off x="5943600" y="3887640"/>
            <a:ext cx="0" cy="15264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 flipV="1">
            <a:off x="5907240" y="3885840"/>
            <a:ext cx="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 flipV="1">
            <a:off x="8037360" y="3887640"/>
            <a:ext cx="0" cy="15264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 flipV="1">
            <a:off x="8001000" y="3885840"/>
            <a:ext cx="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7848720" y="5105160"/>
            <a:ext cx="30456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 flipH="1" flipV="1">
            <a:off x="7848720" y="5105160"/>
            <a:ext cx="30456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8153280" y="5105520"/>
            <a:ext cx="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848720" y="5105520"/>
            <a:ext cx="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1263600" y="402264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gby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3321000" y="447984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gby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5638680" y="402264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gby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7740720" y="447984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gby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 flipV="1">
            <a:off x="3352680" y="5333760"/>
            <a:ext cx="76320" cy="7596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 flipV="1">
            <a:off x="3308400" y="5333760"/>
            <a:ext cx="76320" cy="7596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Garamond"/>
              </a:rPr>
              <a:t>Performance depends on size</a:t>
            </a: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graphicFrame>
        <p:nvGraphicFramePr>
          <p:cNvPr id="608" name=""/>
          <p:cNvGraphicFramePr/>
          <p:nvPr/>
        </p:nvGraphicFramePr>
        <p:xfrm>
          <a:off x="1565280" y="2749680"/>
          <a:ext cx="6546960" cy="2957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65280" y="2749680"/>
                    <a:ext cx="6546960" cy="29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Garamond"/>
              </a:rPr>
              <a:t>Last price for a name query</a:t>
            </a: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635328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SELECT last(price)</a:t>
            </a:r>
            <a:br>
              <a:rPr sz="1600"/>
            </a:b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FROM   ticks t,base b</a:t>
            </a:r>
            <a:br>
              <a:rPr sz="1600"/>
            </a:b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       ASSUMING ORDER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name,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t</a:t>
            </a: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imestamp</a:t>
            </a:r>
            <a:br>
              <a:rPr sz="1600"/>
            </a:b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WHERE  t.ID=b.ID</a:t>
            </a:r>
            <a:br>
              <a:rPr sz="1600"/>
            </a:b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       AND name=“x”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766920" y="239724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6783120" y="3124080"/>
            <a:ext cx="36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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6630480" y="3962520"/>
            <a:ext cx="63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sort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 flipV="1">
            <a:off x="6781680" y="5028840"/>
            <a:ext cx="30492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 flipH="1" flipV="1">
            <a:off x="6781320" y="5028840"/>
            <a:ext cx="30492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7086600" y="5029200"/>
            <a:ext cx="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6781680" y="5029200"/>
            <a:ext cx="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7164000" y="563868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bas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6020280" y="5638680"/>
            <a:ext cx="7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tick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 flipV="1">
            <a:off x="6400800" y="5257800"/>
            <a:ext cx="304920" cy="3808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 flipH="1" flipV="1">
            <a:off x="7162920" y="5334120"/>
            <a:ext cx="304560" cy="3808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 flipV="1">
            <a:off x="6934320" y="4419720"/>
            <a:ext cx="0" cy="4572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 flipV="1">
            <a:off x="6934320" y="3581280"/>
            <a:ext cx="0" cy="457200"/>
          </a:xfrm>
          <a:prstGeom prst="line">
            <a:avLst/>
          </a:prstGeom>
          <a:ln w="63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 flipV="1">
            <a:off x="6934320" y="2819520"/>
            <a:ext cx="0" cy="457200"/>
          </a:xfrm>
          <a:prstGeom prst="line">
            <a:avLst/>
          </a:prstGeom>
          <a:ln w="63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7084080" y="4973760"/>
            <a:ext cx="368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ID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7235280" y="4083120"/>
            <a:ext cx="1290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name,timesamp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7071480" y="3200400"/>
            <a:ext cx="944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Name=“x”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7068960" y="2514600"/>
            <a:ext cx="895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last(price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1143000" y="4665600"/>
            <a:ext cx="3809880" cy="25560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3406680" y="4606920"/>
            <a:ext cx="627120" cy="6426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price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...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700000" y="4606920"/>
            <a:ext cx="616680" cy="6426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date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...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133720" y="4606920"/>
            <a:ext cx="476280" cy="61164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3366"/>
                </a:solidFill>
                <a:latin typeface="Arial Narrow"/>
              </a:rPr>
              <a:t>ID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...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1319760" y="460692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Ticks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4095000" y="4606920"/>
            <a:ext cx="564840" cy="6426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time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...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1752480" y="5545080"/>
            <a:ext cx="2362320" cy="24624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3309840" y="5486400"/>
            <a:ext cx="720360" cy="6426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name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...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2743200" y="5486400"/>
            <a:ext cx="476280" cy="61164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3366"/>
                </a:solidFill>
                <a:latin typeface="Arial Narrow"/>
              </a:rPr>
              <a:t>ID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...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1954440" y="5486400"/>
            <a:ext cx="60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base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Garamond"/>
              </a:rPr>
              <a:t>Last price for a name query</a:t>
            </a: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47592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The sort on name can be eliminated because there will be only one name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Then, push sort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sort</a:t>
            </a: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(r</a:t>
            </a: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  r</a:t>
            </a: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) </a:t>
            </a: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</a:t>
            </a: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A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sort</a:t>
            </a: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(r</a:t>
            </a: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)   </a:t>
            </a:r>
            <a:r>
              <a:rPr b="0" lang="en-US" sz="2400" spc="-1" strike="noStrike" baseline="30000">
                <a:solidFill>
                  <a:srgbClr val="003366"/>
                </a:solidFill>
                <a:latin typeface="Times New Roman"/>
              </a:rPr>
              <a:t>lop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 r</a:t>
            </a: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sort</a:t>
            </a: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(r)  </a:t>
            </a: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</a:t>
            </a: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A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6766920" y="239724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7316640" y="4800600"/>
            <a:ext cx="36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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6630480" y="3124080"/>
            <a:ext cx="63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sort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 flipV="1">
            <a:off x="6781680" y="4190760"/>
            <a:ext cx="30492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 flipV="1">
            <a:off x="6781320" y="4190760"/>
            <a:ext cx="30492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7086600" y="4191120"/>
            <a:ext cx="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6781680" y="4191120"/>
            <a:ext cx="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7164000" y="57150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bas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6020280" y="4724280"/>
            <a:ext cx="7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tick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 flipV="1">
            <a:off x="6400800" y="4419720"/>
            <a:ext cx="304920" cy="3808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H="1" flipV="1">
            <a:off x="7162920" y="4495320"/>
            <a:ext cx="304560" cy="38124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 flipV="1">
            <a:off x="6934320" y="3581280"/>
            <a:ext cx="0" cy="4572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 flipV="1">
            <a:off x="6934320" y="2819520"/>
            <a:ext cx="0" cy="457200"/>
          </a:xfrm>
          <a:prstGeom prst="line">
            <a:avLst/>
          </a:prstGeom>
          <a:ln w="63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7084080" y="4135320"/>
            <a:ext cx="368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ID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7235280" y="3244680"/>
            <a:ext cx="1290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name,timesamp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7605000" y="4952880"/>
            <a:ext cx="944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Name=“x”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7068960" y="2514600"/>
            <a:ext cx="895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last(price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 flipV="1">
            <a:off x="7467480" y="5257800"/>
            <a:ext cx="0" cy="4572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2422440" y="4994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 flipV="1">
            <a:off x="7315200" y="3428640"/>
            <a:ext cx="228600" cy="2286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 flipV="1">
            <a:off x="7314840" y="3428640"/>
            <a:ext cx="228600" cy="2286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V="1">
            <a:off x="4572000" y="4267080"/>
            <a:ext cx="152280" cy="15264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 flipV="1">
            <a:off x="4571640" y="4267080"/>
            <a:ext cx="152280" cy="15264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4724280" y="4267080"/>
            <a:ext cx="0" cy="15264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4572000" y="4267080"/>
            <a:ext cx="0" cy="15264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 flipV="1">
            <a:off x="2590920" y="4267080"/>
            <a:ext cx="152280" cy="15264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 flipH="1" flipV="1">
            <a:off x="2590560" y="4267080"/>
            <a:ext cx="152280" cy="15264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743200" y="4267080"/>
            <a:ext cx="0" cy="15264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2590920" y="4267080"/>
            <a:ext cx="0" cy="15264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6248520" y="3352680"/>
            <a:ext cx="304560" cy="1067040"/>
          </a:xfrm>
          <a:custGeom>
            <a:avLst/>
            <a:gdLst/>
            <a:ahLst/>
            <a:rect l="l" t="t" r="r" b="b"/>
            <a:pathLst>
              <a:path w="192" h="672">
                <a:moveTo>
                  <a:pt x="192" y="0"/>
                </a:moveTo>
                <a:cubicBezTo>
                  <a:pt x="96" y="112"/>
                  <a:pt x="0" y="224"/>
                  <a:pt x="0" y="336"/>
                </a:cubicBezTo>
                <a:cubicBezTo>
                  <a:pt x="0" y="448"/>
                  <a:pt x="96" y="560"/>
                  <a:pt x="192" y="672"/>
                </a:cubicBezTo>
              </a:path>
            </a:pathLst>
          </a:custGeom>
          <a:noFill/>
          <a:ln w="9360">
            <a:solidFill>
              <a:srgbClr val="003366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6210360" y="4444920"/>
            <a:ext cx="266760" cy="355680"/>
          </a:xfrm>
          <a:custGeom>
            <a:avLst/>
            <a:gdLst/>
            <a:ahLst/>
            <a:rect l="l" t="t" r="r" b="b"/>
            <a:pathLst>
              <a:path w="168" h="224">
                <a:moveTo>
                  <a:pt x="168" y="32"/>
                </a:moveTo>
                <a:cubicBezTo>
                  <a:pt x="108" y="16"/>
                  <a:pt x="48" y="0"/>
                  <a:pt x="24" y="32"/>
                </a:cubicBezTo>
                <a:cubicBezTo>
                  <a:pt x="0" y="64"/>
                  <a:pt x="12" y="144"/>
                  <a:pt x="24" y="224"/>
                </a:cubicBezTo>
              </a:path>
            </a:pathLst>
          </a:custGeom>
          <a:noFill/>
          <a:ln w="9360">
            <a:solidFill>
              <a:srgbClr val="003366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Garamond"/>
              </a:rPr>
              <a:t>Last price for a name query</a:t>
            </a: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47592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The projection is carrying an implicit selection: last(price) = price[n], where n is the last index of the price array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f(r.col[i])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(r) </a:t>
            </a: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</a:t>
            </a: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order(r)</a:t>
            </a:r>
            <a:br>
              <a:rPr sz="2400"/>
            </a:b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f(r.col)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pos()=i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(r)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6766920" y="239724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7316640" y="3941640"/>
            <a:ext cx="36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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V="1">
            <a:off x="6781680" y="3331800"/>
            <a:ext cx="30492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 flipV="1">
            <a:off x="6781320" y="3331800"/>
            <a:ext cx="30492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086600" y="3332160"/>
            <a:ext cx="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781680" y="3332160"/>
            <a:ext cx="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7164000" y="485604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bas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6020280" y="3865680"/>
            <a:ext cx="7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tick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 flipV="1">
            <a:off x="6400800" y="3560760"/>
            <a:ext cx="304920" cy="380880"/>
          </a:xfrm>
          <a:prstGeom prst="line">
            <a:avLst/>
          </a:prstGeom>
          <a:ln w="63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 flipH="1" flipV="1">
            <a:off x="7162920" y="3637080"/>
            <a:ext cx="304560" cy="3808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 flipV="1">
            <a:off x="6934320" y="2819520"/>
            <a:ext cx="0" cy="457200"/>
          </a:xfrm>
          <a:prstGeom prst="line">
            <a:avLst/>
          </a:prstGeom>
          <a:ln w="63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7084080" y="3276720"/>
            <a:ext cx="368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ID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7605000" y="4094280"/>
            <a:ext cx="944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Name=“x”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7068960" y="2514600"/>
            <a:ext cx="895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last(price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7467480" y="4398840"/>
            <a:ext cx="0" cy="4572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7088040" y="3048120"/>
            <a:ext cx="406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lop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5564160" y="2666880"/>
            <a:ext cx="36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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V="1">
            <a:off x="5715000" y="2362320"/>
            <a:ext cx="0" cy="457200"/>
          </a:xfrm>
          <a:prstGeom prst="line">
            <a:avLst/>
          </a:prstGeom>
          <a:ln w="63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5848200" y="2743200"/>
            <a:ext cx="887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pos()=last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5820840" y="2057400"/>
            <a:ext cx="532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pric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5563800" y="198108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6324480" y="2158920"/>
            <a:ext cx="457200" cy="355680"/>
          </a:xfrm>
          <a:custGeom>
            <a:avLst/>
            <a:gdLst/>
            <a:ahLst/>
            <a:rect l="l" t="t" r="r" b="b"/>
            <a:pathLst>
              <a:path w="288" h="224">
                <a:moveTo>
                  <a:pt x="288" y="224"/>
                </a:moveTo>
                <a:cubicBezTo>
                  <a:pt x="288" y="144"/>
                  <a:pt x="288" y="64"/>
                  <a:pt x="240" y="32"/>
                </a:cubicBezTo>
                <a:cubicBezTo>
                  <a:pt x="192" y="0"/>
                  <a:pt x="96" y="16"/>
                  <a:pt x="0" y="32"/>
                </a:cubicBezTo>
              </a:path>
            </a:pathLst>
          </a:custGeom>
          <a:noFill/>
          <a:ln w="9360">
            <a:solidFill>
              <a:srgbClr val="003366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6553080" y="2666880"/>
            <a:ext cx="266760" cy="228600"/>
          </a:xfrm>
          <a:custGeom>
            <a:avLst/>
            <a:gdLst/>
            <a:ahLst/>
            <a:rect l="l" t="t" r="r" b="b"/>
            <a:pathLst>
              <a:path w="168" h="144">
                <a:moveTo>
                  <a:pt x="144" y="0"/>
                </a:moveTo>
                <a:cubicBezTo>
                  <a:pt x="156" y="36"/>
                  <a:pt x="168" y="72"/>
                  <a:pt x="144" y="96"/>
                </a:cubicBezTo>
                <a:cubicBezTo>
                  <a:pt x="120" y="120"/>
                  <a:pt x="60" y="132"/>
                  <a:pt x="0" y="144"/>
                </a:cubicBezTo>
              </a:path>
            </a:pathLst>
          </a:custGeom>
          <a:noFill/>
          <a:ln w="9360">
            <a:solidFill>
              <a:srgbClr val="003366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Garamond"/>
              </a:rPr>
              <a:t>Last price for a name query</a:t>
            </a: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809280" y="2214360"/>
            <a:ext cx="421308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But why join the entire relation if we are only using the last tuple?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Can we somehow push the last selection down the join?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6766920" y="239724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7316640" y="4800600"/>
            <a:ext cx="36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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 flipV="1">
            <a:off x="6781680" y="4190760"/>
            <a:ext cx="30492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 flipH="1" flipV="1">
            <a:off x="6781320" y="4190760"/>
            <a:ext cx="30492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7086600" y="4191120"/>
            <a:ext cx="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6781680" y="4191120"/>
            <a:ext cx="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7164000" y="57150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bas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6020280" y="4724280"/>
            <a:ext cx="7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tick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 flipV="1">
            <a:off x="6400800" y="4419720"/>
            <a:ext cx="304920" cy="380880"/>
          </a:xfrm>
          <a:prstGeom prst="line">
            <a:avLst/>
          </a:prstGeom>
          <a:ln w="63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 flipH="1" flipV="1">
            <a:off x="7162920" y="4495320"/>
            <a:ext cx="304560" cy="38124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 flipV="1">
            <a:off x="6934320" y="3581280"/>
            <a:ext cx="0" cy="457200"/>
          </a:xfrm>
          <a:prstGeom prst="line">
            <a:avLst/>
          </a:prstGeom>
          <a:ln w="63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 flipV="1">
            <a:off x="6934320" y="2819520"/>
            <a:ext cx="0" cy="457200"/>
          </a:xfrm>
          <a:prstGeom prst="line">
            <a:avLst/>
          </a:prstGeom>
          <a:ln w="63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7084080" y="4135320"/>
            <a:ext cx="368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ID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7067160" y="3244680"/>
            <a:ext cx="887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pos()=last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7605000" y="4952880"/>
            <a:ext cx="944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Name=“x”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7039800" y="2514600"/>
            <a:ext cx="532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pric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 flipV="1">
            <a:off x="7467480" y="5257800"/>
            <a:ext cx="0" cy="4572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6783120" y="3124080"/>
            <a:ext cx="36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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7088040" y="3930480"/>
            <a:ext cx="406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lop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Garamond"/>
              </a:rPr>
              <a:t>Last price for a name query</a:t>
            </a: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809280" y="2214360"/>
            <a:ext cx="50720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We can take the last position of each ID on ticks to reduce cardinality, but we need to group by ticks.ID first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But trading a join for a group by is usually a good deal?!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One more step: make this an “edge by”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6766920" y="239724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7316640" y="4800600"/>
            <a:ext cx="36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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 flipV="1">
            <a:off x="6781680" y="4190760"/>
            <a:ext cx="30492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 flipH="1" flipV="1">
            <a:off x="6781320" y="4190760"/>
            <a:ext cx="30492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7086600" y="4191120"/>
            <a:ext cx="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781680" y="4191120"/>
            <a:ext cx="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7164000" y="556272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bas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5870880" y="6400800"/>
            <a:ext cx="7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tick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 flipV="1">
            <a:off x="6400800" y="4419720"/>
            <a:ext cx="304920" cy="380880"/>
          </a:xfrm>
          <a:prstGeom prst="line">
            <a:avLst/>
          </a:prstGeom>
          <a:ln w="63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 flipH="1" flipV="1">
            <a:off x="7162920" y="4495320"/>
            <a:ext cx="304560" cy="38124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 flipV="1">
            <a:off x="6934320" y="3581280"/>
            <a:ext cx="0" cy="457200"/>
          </a:xfrm>
          <a:prstGeom prst="line">
            <a:avLst/>
          </a:prstGeom>
          <a:ln w="63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 flipV="1">
            <a:off x="6934320" y="2819520"/>
            <a:ext cx="0" cy="457200"/>
          </a:xfrm>
          <a:prstGeom prst="line">
            <a:avLst/>
          </a:prstGeom>
          <a:ln w="63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7084080" y="4135320"/>
            <a:ext cx="368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ID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7034400" y="3244680"/>
            <a:ext cx="601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safety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7605000" y="4952880"/>
            <a:ext cx="944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Name=“x”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7039800" y="2514600"/>
            <a:ext cx="532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pric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 flipV="1">
            <a:off x="7543800" y="5257800"/>
            <a:ext cx="0" cy="4572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6783120" y="3124080"/>
            <a:ext cx="36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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7088040" y="3930480"/>
            <a:ext cx="406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lop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 flipV="1">
            <a:off x="6248520" y="5181480"/>
            <a:ext cx="0" cy="457200"/>
          </a:xfrm>
          <a:prstGeom prst="line">
            <a:avLst/>
          </a:prstGeom>
          <a:ln w="63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6370200" y="4921200"/>
            <a:ext cx="887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pos()=last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6097320" y="4724280"/>
            <a:ext cx="36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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5945760" y="5562720"/>
            <a:ext cx="70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Gby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6481080" y="5683320"/>
            <a:ext cx="368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ID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 flipV="1">
            <a:off x="6248520" y="6019920"/>
            <a:ext cx="0" cy="457200"/>
          </a:xfrm>
          <a:prstGeom prst="line">
            <a:avLst/>
          </a:prstGeom>
          <a:ln w="63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6351840" y="4692600"/>
            <a:ext cx="502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baseline="-25000">
                <a:solidFill>
                  <a:srgbClr val="003366"/>
                </a:solidFill>
                <a:latin typeface="Times New Roman"/>
              </a:rPr>
              <a:t>each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Garamond"/>
              </a:rPr>
              <a:t>Performance</a:t>
            </a: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graphicFrame>
        <p:nvGraphicFramePr>
          <p:cNvPr id="748" name=""/>
          <p:cNvGraphicFramePr/>
          <p:nvPr/>
        </p:nvGraphicFramePr>
        <p:xfrm>
          <a:off x="1738440" y="2811600"/>
          <a:ext cx="5957640" cy="2565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38440" y="2811600"/>
                    <a:ext cx="5957640" cy="256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Garamond"/>
              </a:rPr>
              <a:t>Conclusion</a:t>
            </a: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AQuery declaratively incorporates order in a per-query basi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Any clause can rely on order; expressions can be order-dependent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Optimization possibilities are vast; performance improvements of an order of magnitude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Applications to Finance, Biology, Linguistics, ..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121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66"/>
                </a:solidFill>
                <a:uFillTx/>
                <a:latin typeface="Times New Roman"/>
                <a:hlinkClick r:id="rId1"/>
              </a:rPr>
              <a:t>http://www.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Times New Roman"/>
                <a:hlinkClick r:id="rId2"/>
              </a:rPr>
              <a:t>cs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Times New Roman"/>
                <a:hlinkClick r:id="rId3"/>
              </a:rPr>
              <a:t>.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Times New Roman"/>
                <a:hlinkClick r:id="rId4"/>
              </a:rPr>
              <a:t>nyu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Times New Roman"/>
                <a:hlinkClick r:id="rId5"/>
              </a:rPr>
              <a:t>.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Times New Roman"/>
                <a:hlinkClick r:id="rId6"/>
              </a:rPr>
              <a:t>edu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Times New Roman"/>
                <a:hlinkClick r:id="rId7"/>
              </a:rPr>
              <a:t>/~lerner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(for additional references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Garamond"/>
              </a:rPr>
              <a:t>3-month moving average: </a:t>
            </a:r>
            <a:br>
              <a:rPr sz="4400"/>
            </a:br>
            <a:r>
              <a:rPr b="0" lang="pt-BR" sz="4400" spc="-1" strike="noStrike">
                <a:solidFill>
                  <a:srgbClr val="003366"/>
                </a:solidFill>
                <a:latin typeface="Garamond"/>
              </a:rPr>
              <a:t>the hard way</a:t>
            </a: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844560" y="2327400"/>
            <a:ext cx="2432160" cy="1742760"/>
            <a:chOff x="844560" y="2327400"/>
            <a:chExt cx="2432160" cy="1742760"/>
          </a:xfrm>
        </p:grpSpPr>
        <p:sp>
          <p:nvSpPr>
            <p:cNvPr id="311" name=""/>
            <p:cNvSpPr/>
            <p:nvPr/>
          </p:nvSpPr>
          <p:spPr>
            <a:xfrm>
              <a:off x="844560" y="2327400"/>
              <a:ext cx="2432160" cy="320400"/>
            </a:xfrm>
            <a:prstGeom prst="rect">
              <a:avLst/>
            </a:prstGeom>
            <a:solidFill>
              <a:srgbClr val="cccc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981080" y="2330280"/>
              <a:ext cx="622800" cy="1739880"/>
            </a:xfrm>
            <a:prstGeom prst="rect">
              <a:avLst/>
            </a:prstGeom>
            <a:noFill/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 </a:t>
              </a:r>
              <a:r>
                <a:rPr b="0" lang="pt-BR" sz="1600" spc="-1" strike="noStrike">
                  <a:solidFill>
                    <a:srgbClr val="003366"/>
                  </a:solidFill>
                  <a:latin typeface="Arial Narrow"/>
                </a:rPr>
                <a:t>sales</a:t>
              </a:r>
              <a:endParaRPr b="0" lang="en-US" sz="16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100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120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140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140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130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620440" y="2330280"/>
              <a:ext cx="650160" cy="1739880"/>
            </a:xfrm>
            <a:prstGeom prst="rect">
              <a:avLst/>
            </a:prstGeom>
            <a:noFill/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 </a:t>
              </a:r>
              <a:r>
                <a:rPr b="0" lang="pt-BR" sz="1600" spc="-1" strike="noStrike">
                  <a:solidFill>
                    <a:srgbClr val="003366"/>
                  </a:solidFill>
                  <a:latin typeface="Arial Narrow"/>
                </a:rPr>
                <a:t>3-avg</a:t>
              </a:r>
              <a:endParaRPr b="0" lang="en-US" sz="16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100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110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120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133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136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270440" y="2330280"/>
              <a:ext cx="695880" cy="1739880"/>
            </a:xfrm>
            <a:prstGeom prst="rect">
              <a:avLst/>
            </a:prstGeom>
            <a:noFill/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 </a:t>
              </a:r>
              <a:r>
                <a:rPr b="0" lang="pt-BR" sz="1600" spc="-1" strike="noStrike">
                  <a:solidFill>
                    <a:srgbClr val="003366"/>
                  </a:solidFill>
                  <a:latin typeface="Arial Narrow"/>
                </a:rPr>
                <a:t>month</a:t>
              </a:r>
              <a:endParaRPr b="0" lang="en-US" sz="16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1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2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3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4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5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3739320" y="2362320"/>
            <a:ext cx="5330880" cy="39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1652760"/>
                <a:tab algn="l" pos="2224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SELECT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t1.month,t1.sales,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1652760"/>
                <a:tab algn="l" pos="2224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(t1.sales+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1652760"/>
                <a:tab algn="l" pos="2224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CASE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WHEN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t2.sales is null AND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1652760"/>
                <a:tab algn="l" pos="2224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t3.sales is null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1652760"/>
                <a:tab algn="l" pos="2224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THEN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2*t1.sale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1652760"/>
                <a:tab algn="l" pos="2224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WHEN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t2.sales is not null AND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1652760"/>
                <a:tab algn="l" pos="2224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t3.sales is null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1652760"/>
                <a:tab algn="l" pos="2224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THEN t2.sale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1652760"/>
                <a:tab algn="l" pos="2224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+(t1.sales+t2.sales)/2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1652760"/>
                <a:tab algn="l" pos="2224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ELSE t2.sales + t3.sale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1652760"/>
                <a:tab algn="l" pos="2224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END) / 3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1652760"/>
                <a:tab algn="l" pos="2224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FROM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Sales t1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1652760"/>
                <a:tab algn="l" pos="2224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LEFT OUTER JOIN Sales t2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1652760"/>
                <a:tab algn="l" pos="2224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  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ON t1.month – 1 = t2.month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1652760"/>
                <a:tab algn="l" pos="2224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LEFT OUTER JOIN Sales t3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1652760"/>
                <a:tab algn="l" pos="2224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  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ON t1.month – 2 = t3.month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82920" y="4343400"/>
            <a:ext cx="189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66"/>
                </a:solidFill>
                <a:latin typeface="Garamond"/>
              </a:rPr>
              <a:t>Problems?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317" name=""/>
          <p:cNvGrpSpPr/>
          <p:nvPr/>
        </p:nvGrpSpPr>
        <p:grpSpPr>
          <a:xfrm>
            <a:off x="495720" y="2666880"/>
            <a:ext cx="8496000" cy="2572920"/>
            <a:chOff x="495720" y="2666880"/>
            <a:chExt cx="8496000" cy="2572920"/>
          </a:xfrm>
        </p:grpSpPr>
        <p:sp>
          <p:nvSpPr>
            <p:cNvPr id="318" name=""/>
            <p:cNvSpPr/>
            <p:nvPr/>
          </p:nvSpPr>
          <p:spPr>
            <a:xfrm>
              <a:off x="495720" y="4780080"/>
              <a:ext cx="319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3366"/>
                </a:buClr>
                <a:buFont typeface="Garamond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3366"/>
                  </a:solidFill>
                  <a:latin typeface="Garamond"/>
                </a:rPr>
                <a:t> “</a:t>
              </a:r>
              <a:r>
                <a:rPr b="0" lang="pt-BR" sz="2400" spc="-1" strike="noStrike">
                  <a:solidFill>
                    <a:srgbClr val="003366"/>
                  </a:solidFill>
                  <a:latin typeface="Garamond"/>
                </a:rPr>
                <a:t>Write-once” query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648320" y="2666880"/>
              <a:ext cx="4343400" cy="243864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20" name=""/>
          <p:cNvGrpSpPr/>
          <p:nvPr/>
        </p:nvGrpSpPr>
        <p:grpSpPr>
          <a:xfrm>
            <a:off x="551520" y="5105520"/>
            <a:ext cx="8440200" cy="1371600"/>
            <a:chOff x="551520" y="5105520"/>
            <a:chExt cx="8440200" cy="1371600"/>
          </a:xfrm>
        </p:grpSpPr>
        <p:sp>
          <p:nvSpPr>
            <p:cNvPr id="321" name=""/>
            <p:cNvSpPr/>
            <p:nvPr/>
          </p:nvSpPr>
          <p:spPr>
            <a:xfrm>
              <a:off x="4648320" y="5105520"/>
              <a:ext cx="4343400" cy="137160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51520" y="5181480"/>
              <a:ext cx="2545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3366"/>
                </a:buClr>
                <a:buFont typeface="Garamond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3366"/>
                  </a:solidFill>
                  <a:latin typeface="Garamond"/>
                </a:rPr>
                <a:t> </a:t>
              </a:r>
              <a:r>
                <a:rPr b="0" lang="pt-BR" sz="2400" spc="-1" strike="noStrike">
                  <a:solidFill>
                    <a:srgbClr val="003366"/>
                  </a:solidFill>
                  <a:latin typeface="Garamond"/>
                </a:rPr>
                <a:t>Three way join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Garamond"/>
              </a:rPr>
              <a:t>3-month moving average: </a:t>
            </a:r>
            <a:br>
              <a:rPr sz="4400"/>
            </a:br>
            <a:r>
              <a:rPr b="0" lang="pt-BR" sz="4400" spc="-1" strike="noStrike">
                <a:solidFill>
                  <a:srgbClr val="003366"/>
                </a:solidFill>
                <a:latin typeface="Garamond"/>
              </a:rPr>
              <a:t>the OLAP way</a:t>
            </a: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grpSp>
        <p:nvGrpSpPr>
          <p:cNvPr id="324" name=""/>
          <p:cNvGrpSpPr/>
          <p:nvPr/>
        </p:nvGrpSpPr>
        <p:grpSpPr>
          <a:xfrm>
            <a:off x="844560" y="2327400"/>
            <a:ext cx="2432160" cy="1742760"/>
            <a:chOff x="844560" y="2327400"/>
            <a:chExt cx="2432160" cy="1742760"/>
          </a:xfrm>
        </p:grpSpPr>
        <p:sp>
          <p:nvSpPr>
            <p:cNvPr id="325" name=""/>
            <p:cNvSpPr/>
            <p:nvPr/>
          </p:nvSpPr>
          <p:spPr>
            <a:xfrm>
              <a:off x="844560" y="2327400"/>
              <a:ext cx="2432160" cy="320400"/>
            </a:xfrm>
            <a:prstGeom prst="rect">
              <a:avLst/>
            </a:prstGeom>
            <a:solidFill>
              <a:srgbClr val="cccc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981080" y="2330280"/>
              <a:ext cx="622800" cy="1739880"/>
            </a:xfrm>
            <a:prstGeom prst="rect">
              <a:avLst/>
            </a:prstGeom>
            <a:noFill/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 </a:t>
              </a:r>
              <a:r>
                <a:rPr b="0" lang="pt-BR" sz="1600" spc="-1" strike="noStrike">
                  <a:solidFill>
                    <a:srgbClr val="003366"/>
                  </a:solidFill>
                  <a:latin typeface="Arial Narrow"/>
                </a:rPr>
                <a:t>sales</a:t>
              </a:r>
              <a:endParaRPr b="0" lang="en-US" sz="16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100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120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140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140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130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620440" y="2330280"/>
              <a:ext cx="650160" cy="1739880"/>
            </a:xfrm>
            <a:prstGeom prst="rect">
              <a:avLst/>
            </a:prstGeom>
            <a:noFill/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 </a:t>
              </a:r>
              <a:r>
                <a:rPr b="0" lang="pt-BR" sz="1600" spc="-1" strike="noStrike">
                  <a:solidFill>
                    <a:srgbClr val="003366"/>
                  </a:solidFill>
                  <a:latin typeface="Arial Narrow"/>
                </a:rPr>
                <a:t>3-avg</a:t>
              </a:r>
              <a:endParaRPr b="0" lang="en-US" sz="16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100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110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120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133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136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270440" y="2330280"/>
              <a:ext cx="695880" cy="1739880"/>
            </a:xfrm>
            <a:prstGeom prst="rect">
              <a:avLst/>
            </a:prstGeom>
            <a:noFill/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 </a:t>
              </a:r>
              <a:r>
                <a:rPr b="0" lang="pt-BR" sz="1600" spc="-1" strike="noStrike">
                  <a:solidFill>
                    <a:srgbClr val="003366"/>
                  </a:solidFill>
                  <a:latin typeface="Arial Narrow"/>
                </a:rPr>
                <a:t>month</a:t>
              </a:r>
              <a:endParaRPr b="0" lang="en-US" sz="16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1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2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3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4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5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29" name=""/>
          <p:cNvSpPr/>
          <p:nvPr/>
        </p:nvSpPr>
        <p:spPr>
          <a:xfrm>
            <a:off x="3737880" y="2362320"/>
            <a:ext cx="51004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30909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SELECT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month,sales,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30909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avg(sales) OVER (ORDER BY month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30909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ROWS BETWEEN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30909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2 PRECEDING AND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30909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CURRENT ROW)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30909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FROM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Sale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591360" y="4038480"/>
            <a:ext cx="189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66"/>
                </a:solidFill>
                <a:latin typeface="Garamond"/>
              </a:rPr>
              <a:t>Problems?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331" name=""/>
          <p:cNvGrpSpPr/>
          <p:nvPr/>
        </p:nvGrpSpPr>
        <p:grpSpPr>
          <a:xfrm>
            <a:off x="3536640" y="2590920"/>
            <a:ext cx="5378760" cy="3111840"/>
            <a:chOff x="3536640" y="2590920"/>
            <a:chExt cx="5378760" cy="3111840"/>
          </a:xfrm>
        </p:grpSpPr>
        <p:sp>
          <p:nvSpPr>
            <p:cNvPr id="332" name=""/>
            <p:cNvSpPr/>
            <p:nvPr/>
          </p:nvSpPr>
          <p:spPr>
            <a:xfrm>
              <a:off x="3536640" y="4511520"/>
              <a:ext cx="53542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3366"/>
                </a:buClr>
                <a:buFont typeface="Garamond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3366"/>
                  </a:solidFill>
                  <a:latin typeface="Garamond"/>
                </a:rPr>
                <a:t> </a:t>
              </a:r>
              <a:r>
                <a:rPr b="0" lang="pt-BR" sz="2400" spc="-1" strike="noStrike">
                  <a:solidFill>
                    <a:srgbClr val="003366"/>
                  </a:solidFill>
                  <a:latin typeface="Garamond"/>
                </a:rPr>
                <a:t>OVER construct  is confined to the </a:t>
              </a:r>
              <a:br>
                <a:rPr sz="2400"/>
              </a:br>
              <a:r>
                <a:rPr b="0" lang="pt-BR" sz="2400" spc="-1" strike="noStrike">
                  <a:solidFill>
                    <a:srgbClr val="003366"/>
                  </a:solidFill>
                  <a:latin typeface="Garamond"/>
                </a:rPr>
                <a:t>SELECT clause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3366"/>
                </a:buClr>
                <a:buFont typeface="Garamond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3366"/>
                  </a:solidFill>
                  <a:latin typeface="Garamond"/>
                </a:rPr>
                <a:t> </a:t>
              </a:r>
              <a:r>
                <a:rPr b="0" lang="pt-BR" sz="2400" spc="-1" strike="noStrike">
                  <a:solidFill>
                    <a:srgbClr val="003366"/>
                  </a:solidFill>
                  <a:latin typeface="Garamond"/>
                </a:rPr>
                <a:t>Awkward syntax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172200" y="2590920"/>
              <a:ext cx="2743200" cy="129528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Garamond"/>
              </a:rPr>
              <a:t>Network Management Query</a:t>
            </a: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335" name=""/>
          <p:cNvSpPr/>
          <p:nvPr/>
        </p:nvSpPr>
        <p:spPr>
          <a:xfrm>
            <a:off x="809640" y="2214720"/>
            <a:ext cx="3610080" cy="38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Times New Roman"/>
              </a:rPr>
              <a:t>Find duration and average length of packets of src-dst flows. A flow from src to dest ends after a 2-minute silence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095480" y="4003560"/>
            <a:ext cx="3089160" cy="30168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618720" y="3995640"/>
            <a:ext cx="56484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time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2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47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4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5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5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575440" y="3995640"/>
            <a:ext cx="51300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dst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092320" y="3995640"/>
            <a:ext cx="47628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src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166400" y="3995640"/>
            <a:ext cx="88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Packets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106440" y="3995640"/>
            <a:ext cx="50220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len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25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27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33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23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28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30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648320" y="2282760"/>
            <a:ext cx="4495680" cy="41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56664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WITH</a:t>
            </a:r>
            <a:br>
              <a:rPr sz="1100"/>
            </a:b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 Prec AS (src,dst,len,time,ptime)</a:t>
            </a:r>
            <a:br>
              <a:rPr sz="1100"/>
            </a:b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 (SELECT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src,dst,len,time,min(time) OVER w</a:t>
            </a:r>
            <a:br>
              <a:rPr sz="1100"/>
            </a:b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  FROM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Packets</a:t>
            </a:r>
            <a:br>
              <a:rPr sz="1100"/>
            </a:b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  WINDOW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w AS</a:t>
            </a:r>
            <a:br>
              <a:rPr sz="1100"/>
            </a:b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(PARTITION BY src,dst</a:t>
            </a:r>
            <a:br>
              <a:rPr sz="1100"/>
            </a:b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 ORDER BY time</a:t>
            </a:r>
            <a:br>
              <a:rPr sz="1100"/>
            </a:b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 ROWS BETWEEN 1 PRECEDING</a:t>
            </a:r>
            <a:br>
              <a:rPr sz="1100"/>
            </a:b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AND 1 PRECEEDING)),</a:t>
            </a:r>
            <a:br>
              <a:rPr sz="1100"/>
            </a:b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 Flow AS (src,dst,len,time,flag)</a:t>
            </a:r>
            <a:br>
              <a:rPr sz="1100"/>
            </a:b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 (SELECT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src,dst,len,time,</a:t>
            </a:r>
            <a:br>
              <a:rPr sz="1100"/>
            </a:b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CASE</a:t>
            </a:r>
            <a:br>
              <a:rPr sz="1100"/>
            </a:b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  WHEN time-ptime &gt; 120 THEN 1</a:t>
            </a:r>
            <a:br>
              <a:rPr sz="1100"/>
            </a:b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  ELSE 0</a:t>
            </a:r>
            <a:br>
              <a:rPr sz="1100"/>
            </a:b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  FROM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Prec),</a:t>
            </a:r>
            <a:br>
              <a:rPr sz="1100"/>
            </a:b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 FlowID AS (src,dst,len,time,f</a:t>
            </a:r>
            <a:r>
              <a:rPr b="0" lang="pt-BR" sz="1100" spc="-1" strike="noStrike">
                <a:solidFill>
                  <a:srgbClr val="003366"/>
                </a:solidFill>
                <a:latin typeface="Courier New"/>
              </a:rPr>
              <a:t>ID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)</a:t>
            </a:r>
            <a:br>
              <a:rPr sz="1100"/>
            </a:b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 (SELECT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src,dst,len,time,sum(f</a:t>
            </a:r>
            <a:r>
              <a:rPr b="0" lang="pt-BR" sz="1100" spc="-1" strike="noStrike">
                <a:solidFill>
                  <a:srgbClr val="003366"/>
                </a:solidFill>
                <a:latin typeface="Courier New"/>
              </a:rPr>
              <a:t>lag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) OVER w</a:t>
            </a:r>
            <a:br>
              <a:rPr sz="1100"/>
            </a:b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  FROM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Flow</a:t>
            </a:r>
            <a:br>
              <a:rPr sz="1100"/>
            </a:b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  WINDOW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w AS</a:t>
            </a:r>
            <a:br>
              <a:rPr sz="1100"/>
            </a:b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(ORDER BY src,dst, time</a:t>
            </a:r>
            <a:br>
              <a:rPr sz="1100"/>
            </a:b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 ROWS UNBOUNDED PRECEDING)) </a:t>
            </a:r>
            <a:br>
              <a:rPr sz="1100"/>
            </a:b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SELECT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src,dst,count(*),avg(len) </a:t>
            </a:r>
            <a:br>
              <a:rPr sz="1100"/>
            </a:b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FROM  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FlowID </a:t>
            </a:r>
            <a:br>
              <a:rPr sz="1100"/>
            </a:b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GROUP 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BY src,dst,fID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Inter-tuple operations require joins or additional query constructs - or both!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Ordering can only be obtained in specific clauses (e.g., </a:t>
            </a:r>
            <a:r>
              <a:rPr b="0" lang="pt-BR" sz="2800" spc="-1" strike="noStrike">
                <a:solidFill>
                  <a:srgbClr val="003366"/>
                </a:solidFill>
                <a:latin typeface="Times New Roman"/>
              </a:rPr>
              <a:t>SELECT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Bottom line: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Queries become difficult to read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Cost of execution is larger than necessary (optimization of nested queries is still an open problem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Garamond"/>
              </a:rPr>
              <a:t>Order</a:t>
            </a:r>
            <a:r>
              <a:rPr b="0" lang="pt-BR" sz="4400" spc="-1" strike="noStrike">
                <a:solidFill>
                  <a:srgbClr val="003366"/>
                </a:solidFill>
                <a:latin typeface="Garamond"/>
              </a:rPr>
              <a:t> in SQL:1999</a:t>
            </a: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3366"/>
                </a:solidFill>
                <a:latin typeface="Garamond"/>
              </a:rPr>
              <a:t>Idea</a:t>
            </a:r>
            <a:endParaRPr b="0" lang="en-US" sz="47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Replace ordered tables (</a:t>
            </a:r>
            <a:r>
              <a:rPr b="0" i="1" lang="en-US" sz="2400" spc="-1" strike="noStrike">
                <a:solidFill>
                  <a:srgbClr val="003366"/>
                </a:solidFill>
                <a:latin typeface="Times New Roman"/>
              </a:rPr>
              <a:t>arrables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) for tables in the data model (inspiration from KSQL by KX systems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Whatever can be done on a table can be done on an </a:t>
            </a:r>
            <a:r>
              <a:rPr b="0" i="1" lang="en-US" sz="2000" spc="-1" strike="noStrike">
                <a:solidFill>
                  <a:srgbClr val="003366"/>
                </a:solidFill>
                <a:latin typeface="Times New Roman"/>
              </a:rPr>
              <a:t>arrable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. Not vice-versa.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Define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 order on a per-query basi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Times New Roman"/>
              </a:rPr>
              <a:t>All query clauses can count on data ordering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Maintain SQL flavor (upward compatibility to SQL 92) while allowing expressions based on order with no additional language construct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Exploit optimization techniques involving order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1536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3366"/>
                </a:solidFill>
                <a:latin typeface="Times New Roman"/>
              </a:rPr>
              <a:t>That’s AQuery!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Garamond"/>
              </a:rPr>
              <a:t>Moving average </a:t>
            </a:r>
            <a:br>
              <a:rPr sz="4400"/>
            </a:br>
            <a:r>
              <a:rPr b="0" lang="pt-BR" sz="4400" spc="-1" strike="noStrike">
                <a:solidFill>
                  <a:srgbClr val="003366"/>
                </a:solidFill>
                <a:latin typeface="Garamond"/>
              </a:rPr>
              <a:t>over Arrables</a:t>
            </a: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348" name=""/>
          <p:cNvSpPr/>
          <p:nvPr/>
        </p:nvSpPr>
        <p:spPr>
          <a:xfrm>
            <a:off x="844560" y="2376360"/>
            <a:ext cx="2741760" cy="25560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114280" y="2330280"/>
            <a:ext cx="622800" cy="173988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0" lang="pt-BR" sz="1600" spc="-1" strike="noStrike">
                <a:solidFill>
                  <a:srgbClr val="003366"/>
                </a:solidFill>
                <a:latin typeface="Arial Narrow"/>
              </a:rPr>
              <a:t>sale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0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2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4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4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3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849040" y="2330280"/>
            <a:ext cx="650160" cy="173988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0" lang="pt-BR" sz="1600" spc="-1" strike="noStrike">
                <a:solidFill>
                  <a:srgbClr val="003366"/>
                </a:solidFill>
                <a:latin typeface="Arial Narrow"/>
              </a:rPr>
              <a:t>3-avg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0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1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2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33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36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70440" y="2330280"/>
            <a:ext cx="695880" cy="173988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0" lang="pt-BR" sz="1600" spc="-1" strike="noStrike">
                <a:solidFill>
                  <a:srgbClr val="003366"/>
                </a:solidFill>
                <a:latin typeface="Arial Narrow"/>
              </a:rPr>
              <a:t>month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3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4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894120" y="2362320"/>
            <a:ext cx="3644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SELECT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month,avgs(3,sales)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FROM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Sale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ASSUMING ORDER month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353" name=""/>
          <p:cNvGrpSpPr/>
          <p:nvPr/>
        </p:nvGrpSpPr>
        <p:grpSpPr>
          <a:xfrm>
            <a:off x="1676520" y="3789360"/>
            <a:ext cx="6652440" cy="934560"/>
            <a:chOff x="1676520" y="3789360"/>
            <a:chExt cx="6652440" cy="934560"/>
          </a:xfrm>
        </p:grpSpPr>
        <p:sp>
          <p:nvSpPr>
            <p:cNvPr id="354" name=""/>
            <p:cNvSpPr/>
            <p:nvPr/>
          </p:nvSpPr>
          <p:spPr>
            <a:xfrm flipH="1" flipV="1">
              <a:off x="1676520" y="4190760"/>
              <a:ext cx="304560" cy="5331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1981080" y="4190760"/>
              <a:ext cx="304920" cy="5331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 flipV="1">
              <a:off x="1981080" y="4190760"/>
              <a:ext cx="1067040" cy="5331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507480" y="3789360"/>
              <a:ext cx="48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3366"/>
                </a:buClr>
                <a:buFont typeface="Garamond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3366"/>
                  </a:solidFill>
                  <a:latin typeface="Garamond"/>
                </a:rPr>
                <a:t> </a:t>
              </a:r>
              <a:r>
                <a:rPr b="0" lang="pt-BR" sz="2400" spc="-1" strike="noStrike">
                  <a:solidFill>
                    <a:srgbClr val="003366"/>
                  </a:solidFill>
                  <a:latin typeface="Garamond"/>
                </a:rPr>
                <a:t>Arrable: a collection of named</a:t>
              </a:r>
              <a:br>
                <a:rPr sz="2400"/>
              </a:br>
              <a:r>
                <a:rPr b="0" lang="pt-BR" sz="2400" spc="-1" strike="noStrike">
                  <a:solidFill>
                    <a:srgbClr val="003366"/>
                  </a:solidFill>
                  <a:latin typeface="Garamond"/>
                </a:rPr>
                <a:t>arrays, ordered by a column list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9T10:41:36Z</dcterms:created>
  <dc:creator>lerner</dc:creator>
  <dc:description/>
  <dc:language>en-US</dc:language>
  <cp:lastModifiedBy>dshasha</cp:lastModifiedBy>
  <dcterms:modified xsi:type="dcterms:W3CDTF">2004-10-13T20:46:22Z</dcterms:modified>
  <cp:revision>52</cp:revision>
  <dc:subject/>
  <dc:title>Challenge</dc:title>
</cp:coreProperties>
</file>