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31BA-F4A2-43D5-B7A5-A8B92026A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994E-0758-4CEB-8450-4A2753A4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B48F-9AAB-409E-920B-5821E3974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1427-2240-4145-B928-DD8F41768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1CDC-FE9F-4187-94E3-9D346220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2840-8CF2-41D0-AEDE-EA9A762E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81E2-CC61-4087-B8A1-D7625E93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1CBA-A1AE-4001-A008-29C54DA8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037D-4B23-4411-8CA7-6423FE7B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CBD1-8616-46FB-AB2D-008490F5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B11F-6856-4966-AFBB-BD6FB69B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57FA-0775-402B-85C9-62BDDFF8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CAC10E-733E-4BEC-BA7C-3BC42E4FA4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73ECBF-5904-43C0-8496-A94342DC7E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 of reliable distributed database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nnis Shas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ingle segmented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erver process that responds to cli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the server by keeping track of which segments are being u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mall load balancing module that copies segments and adjusts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tend there is new hardware and drop that in to improve the performance of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e the data from one root database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broker to route queries to the least busy root database ser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error handling so that if one server cannot handle a query, another one c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air a root database that is missing some segments by copying from another root database. 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update as well as read transactions. Maintain a serializable order consistent with the arrival of the various transactions at the brok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use distribu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: different queries can be accessing different parts of data concurrently and without interfer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possible uses such a locating data near its users are not an issue for 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Use Replic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a Distributed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ailability: if one copy fails you can go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 for read-mostly applications: can go to any repl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racteristics of Business/Financial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comes in time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recent data is more heavily accessed than older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ch write. Trickle re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ying Things Out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a given “root database”, par.txt tells where all the distributed partitions 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tions must be disjoint, so no replication within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ion must come from multiple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dates go to all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s can go to any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sue: failure of a segment in one root datab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1: If a segment is down, use another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2: If segment is down in one root database, then copy from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3 (which is more complex): share segments in different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Load Balan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segments may be busier than oth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y move segments from one site to another to balance lo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 up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Dropping in New Hard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uld like the drop-in to simply improve th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k usage of different segments in each root database and load balance to move some segments to the new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3T09:44:07Z</dcterms:created>
  <dc:creator>Dennis Shasha</dc:creator>
  <dc:description/>
  <dc:language>en-US</dc:language>
  <cp:lastModifiedBy>Dennis Shasha</cp:lastModifiedBy>
  <dcterms:modified xsi:type="dcterms:W3CDTF">2012-06-03T11:42:11Z</dcterms:modified>
  <cp:revision>6</cp:revision>
  <dc:subject/>
  <dc:title>Distribution and Replication in KDB</dc:title>
</cp:coreProperties>
</file>