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F56F-B913-4C2A-BB26-6E27AE38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7B96-BDB0-4205-A9EC-DA94757C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BE7A-A733-4167-B077-1AC8FD99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088E-5481-4CF3-B1E1-E73F5F3A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02BC-22D1-4AD0-99F7-F89208C0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D48D-AF90-4273-9557-F383906F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6822-C5C5-4507-9A2D-27A8458E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9808-737E-48CC-95BE-FA40DB3C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DC50-9A44-4CD2-BDBD-87AD24E7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466B-F6F6-477F-A23E-02C40A22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F0AB-0538-451B-9DFC-4D410C4A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82B4-15C7-49C4-A311-EC7B2152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6B1D2-877C-4B36-AFF7-DCA8016A6A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2E3814-663F-4DE4-B531-E7BA3002D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of reliable distributed database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Shas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ingle segmented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erver process that responds to cl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server by keeping track of which segments are being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mall load balancing module that copies segments and adjusts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tend there is new hardware and drop that in to improve the performance of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e the data from one root database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roker to route queries to the least busy root database ser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error handling so that if one server cannot handle a query, another one 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air a root database that is missing some segments by copying from another root database. 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update as well as read transactions. Maintain a serializable order consistent with the arrival of the various transactions at the brok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: different queries can be accessing different parts of data concurrently and without inter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ossible uses such a locating data near its users are not an issue for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Use Replic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Distributed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: if one copy fails you can go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for read-mostly applications: can go to any rep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of Business/Financi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comes in tim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recent data is more heavily accessed than older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ch write. Trickle 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ing Things Out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“root database”, par.txt tells where all the distributed partitions 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tions must be disjoint, so no replication within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ion must come from multiple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go to all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can go to any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: failure of a segment in one root data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1: If a segment is down, use another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2: If segment is down in one root database, then copy from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3 (which is more complex): share segments in different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Load Bala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egments may be busier tha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y move segments from one site to another to balance l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up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Dropping in New Hard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like the drop-in to simply improv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usage of different segments in each root database and load balance to move some segments to the new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09:44:07Z</dcterms:created>
  <dc:creator>Dennis Shasha</dc:creator>
  <dc:description/>
  <dc:language>en-US</dc:language>
  <cp:lastModifiedBy>Dennis Shasha</cp:lastModifiedBy>
  <dcterms:modified xsi:type="dcterms:W3CDTF">2012-06-03T11:42:11Z</dcterms:modified>
  <cp:revision>6</cp:revision>
  <dc:subject/>
  <dc:title>Distribution and Replication in KDB</dc:title>
</cp:coreProperties>
</file>