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A910C-04B5-4797-9884-BF32EBD7C1A6}"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57925-630D-4D6B-AB9D-08DFDE0BD560}"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BF2C7-5C1D-4D75-BD79-324CB4075133}"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96F89-612B-4CEF-BE18-92D1FF228BA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6885F-8707-4653-BD53-B753C3B81F97}"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19E389DF-8396-47DF-A938-EF94489D812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E2564BAB-CD8C-4CF1-8642-6D66C8DABDFE}" type="datetime3">
              <a:rPr b="0" lang="en-US" sz="1100" spc="-1" strike="noStrike">
                <a:solidFill>
                  <a:srgbClr val="ffffff"/>
                </a:solidFill>
                <a:latin typeface="Times New Roman"/>
              </a:rPr>
              <a:t>July 31,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F5012CCF-910E-41A9-92DF-A55B58FE623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18C16D8E-7A0C-4FB6-B3BB-C7122DF890AF}" type="datetime3">
              <a:rPr b="0" lang="en-US" sz="1100" spc="-1" strike="noStrike">
                <a:solidFill>
                  <a:srgbClr val="ffffff"/>
                </a:solidFill>
                <a:latin typeface="Times New Roman"/>
              </a:rPr>
              <a:t>July 31,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30E69DC0-1749-4830-9238-23A02BDDB183}"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