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6FD2E-D41F-4F72-96BD-D7611AF5E838}"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9B09F-04FA-4FA7-97D3-AD6C7D845385}"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74873-20C7-4F8D-BDA3-454653479D0A}"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327D9-1065-4AA3-8A8B-DD420A6C4C5A}"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EE3DC-0004-4864-81E3-907D22568E84}"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2FBFF39F-02AF-4628-A2E5-94AF208E3B8A}"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EA931B5E-7149-4721-9746-A74593C30373}" type="datetime3">
              <a:rPr b="0" lang="en-US" sz="1100" spc="-1" strike="noStrike">
                <a:solidFill>
                  <a:srgbClr val="ffffff"/>
                </a:solidFill>
                <a:latin typeface="Times New Roman"/>
              </a:rPr>
              <a:t>July 29,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11F55244-EEEA-4A5F-9250-A0121F8688E5}"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BE0F597D-E55B-4FCB-9BE1-E8D2C839D9DB}" type="datetime3">
              <a:rPr b="0" lang="en-US" sz="1100" spc="-1" strike="noStrike">
                <a:solidFill>
                  <a:srgbClr val="ffffff"/>
                </a:solidFill>
                <a:latin typeface="Times New Roman"/>
              </a:rPr>
              <a:t>July 29,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90A63336-39A4-4E9E-938E-AF827283C587}"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