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0980-8AE3-4CAB-8C92-ABBFAE23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9BFA-5BFD-4FA1-9E36-50CE0F0B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09B2-12F5-4B90-BA64-3B48D76C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9583-D809-4CE3-814E-6A776929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FDAC-C3F0-424F-859C-34F63080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7EBB-0469-4ACE-8A26-29C56B35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86E7-C036-4471-BA0A-DC8A138E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D504-9570-4259-AC8C-EBC0E693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2AB8-0A02-445A-AD2D-1A8AD731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E13F-5C34-415B-8A4A-5C38820C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7417-CBAF-42B7-8C65-B5C7F756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29FA-7D94-4F44-8344-19B62353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F75B3B-1B91-40B2-83A9-5B274AD860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C5D0C9-4A3D-4231-AF01-2806D7D54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of reliable distributed database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Shas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ingle segmented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erver process that responds to cl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server by keeping track of which segments are being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mall load balancing module that copies segments and adjusts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tend there is new hardware and drop that in to improve the performance of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e the data from one root database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roker to route queries to the least busy root database ser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error handling so that if one server cannot handle a query, another one 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air a root database that is missing some segments by copying from another root database. 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update as well as read transactions. Maintain a serializable order consistent with the arrival of the various transactions at the brok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: different queries can be accessing different parts of data concurrently and without inter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ossible uses such a locating data near its users are not an issue for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Use Replic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Distributed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: if one copy fails you can go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for read-mostly applications: can go to any rep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of Business/Financi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comes in tim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recent data is more heavily accessed than older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ch write. Trickle 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ing Things Out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“root database”, par.txt tells where all the distributed partitions 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tions must be disjoint, so no replication within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ion must come from multiple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go to all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can go to any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: failure of a segment in one root data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1: If a segment is down, use another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2: If segment is down in one root database, then copy from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3 (which is more complex): share segments in different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Load Bala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egments may be busier tha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y move segments from one site to another to balance l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up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Dropping in New Hard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like the drop-in to simply improv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usage of different segments in each root database and load balance to move some segments to the new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09:44:07Z</dcterms:created>
  <dc:creator>Dennis Shasha</dc:creator>
  <dc:description/>
  <dc:language>en-US</dc:language>
  <cp:lastModifiedBy>Dennis Shasha</cp:lastModifiedBy>
  <dcterms:modified xsi:type="dcterms:W3CDTF">2012-06-03T11:42:11Z</dcterms:modified>
  <cp:revision>6</cp:revision>
  <dc:subject/>
  <dc:title>Distribution and Replication in KDB</dc:title>
</cp:coreProperties>
</file>