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4CB3-3322-464B-BC30-C6A7398F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0F2-038A-4DD0-B8B8-18248B98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6E4B-E7EA-461C-939B-25612E6B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01BB-DF82-43E4-9C49-3F28767CD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701-6559-414E-8C5F-BC1BE930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6373-CEEF-4981-911B-7A0CD52C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8320-B7CA-4D05-85E5-A246D935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49C-2252-40D2-992E-CC3395C6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0BA5-9F25-43E0-95A1-B4885D89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F99-49A1-4D22-A25F-902A89E5B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A97C-DE4C-4270-9C41-B700DB6C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8C5-3046-4C50-AE21-94796A7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FE62A-3A4D-4B46-89F9-17080EE43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8ACBF-0325-4602-B4D0-4B6E94E94D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sign of reliable distributed database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Shas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ingle segmented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a server process that responds to cl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the server by keeping track of which segments are being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a small load balancing module that copies segments and adjusts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2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tend there is new hardware and drop that in to improve the performance of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e the data from one root database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broker to route queries to the least busy root database ser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error handling so that if one server cannot handle a query, another one c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air a root database that is missing some segments by copying from another root database. Adjust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signment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update as well as read transactions. Maintain a serializable order consistent with the arrival of the various transactions at the brok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use distribu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: different queries can be accessing different parts of data concurrently and without interfer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ossible uses such a locating data near its users are not an issue for 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Use Replicatio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a Distributed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vailability: if one copy fails you can go to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 for read-mostly applications: can go to any replic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racteristics of Business/Financial D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comes in time or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recent data is more heavily accessed than older dat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ch write. Trickle re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ying Things Out in K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a given “root database”, par.txt tells where all the distributed partitions 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itions must be disjoint, so no replication within a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lication must come from multiple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dates go to all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can go to any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ssue: failure of a segment in one root databa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1: If a segment is down, use another root datab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2: If segment is down in one root database, then copy from another on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 3 (which is more complex): share segments in different root datab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Load Balan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segments may be busier than othe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ply move segments from one site to another to balance lo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 up par.tx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ssue: Dropping in New Hard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like the drop-in to simply improve th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ck usage of different segments in each root database and load balance to move some segments to the new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par.t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3T09:44:07Z</dcterms:created>
  <dc:creator>Dennis Shasha</dc:creator>
  <dc:description/>
  <dc:language>en-US</dc:language>
  <cp:lastModifiedBy>Dennis Shasha</cp:lastModifiedBy>
  <dcterms:modified xsi:type="dcterms:W3CDTF">2012-06-03T11:42:11Z</dcterms:modified>
  <cp:revision>6</cp:revision>
  <dc:subject/>
  <dc:title>Distribution and Replication in KDB</dc:title>
</cp:coreProperties>
</file>