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41C8-53FF-474D-8DFA-456181F93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519D-012F-4F56-AF0F-D9C4E159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4C16-440A-4045-A900-B6247FB1F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3E81-0CA2-40CB-8D28-58ECA767E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7889-6532-40EF-BC59-8160F9D3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BBE3-4A2B-44E4-BEA6-389C48E9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CF23-A283-4AED-8FE1-E50AD5D8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2F6F-D22A-4B30-8684-93BEE1FC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74A5-1540-471A-9032-228F4A4D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2F63-BA15-4A6C-B20B-F59FD5FF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3276-C6EE-48A9-8076-398F6564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9B57-A013-4DB6-814D-A1307C6F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759057-0192-4A3F-9B99-6D3EF073CA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D89A56-44A6-403F-BB92-86BD08DE73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 of reliable distributed database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nnis Shas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ingle segmented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erver process that responds to cli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the server by keeping track of which segments are being u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mall load balancing module that copies segments and adjusts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tend there is new hardware and drop that in to improve the performance of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e the data from one root database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broker to route queries to the least busy root database ser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error handling so that if one server cannot handle a query, another one c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air a root database that is missing some segments by copying from another root database. 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update as well as read transactions. Maintain a serializable order consistent with the arrival of the various transactions at the brok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use distribu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: different queries can be accessing different parts of data concurrently and without interfer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possible uses such a locating data near its users are not an issue for 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Use Replic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a Distributed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ailability: if one copy fails you can go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 for read-mostly applications: can go to any repl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racteristics of Business/Financial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comes in time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recent data is more heavily accessed than older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ch write. Trickle re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ying Things Out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a given “root database”, par.txt tells where all the distributed partitions 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tions must be disjoint, so no replication within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ion must come from multiple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dates go to all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s can go to any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sue: failure of a segment in one root datab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1: If a segment is down, use another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2: If segment is down in one root database, then copy from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3 (which is more complex): share segments in different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Load Balan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segments may be busier than oth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y move segments from one site to another to balance lo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 up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Dropping in New Hard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uld like the drop-in to simply improve th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k usage of different segments in each root database and load balance to move some segments to the new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3T09:44:07Z</dcterms:created>
  <dc:creator>Dennis Shasha</dc:creator>
  <dc:description/>
  <dc:language>en-US</dc:language>
  <cp:lastModifiedBy>Dennis Shasha</cp:lastModifiedBy>
  <dcterms:modified xsi:type="dcterms:W3CDTF">2012-06-03T11:42:11Z</dcterms:modified>
  <cp:revision>6</cp:revision>
  <dc:subject/>
  <dc:title>Distribution and Replication in KDB</dc:title>
</cp:coreProperties>
</file>