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E03F-04CD-4F51-A771-6020D88F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05AC-04A2-4224-B16A-C8228CA4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204D-20E0-45BC-BF07-AA0CA3C2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8922-C744-4C1F-B8F6-C169184E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5A53-2A8C-41D1-B11B-E0D309C9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5479-EC33-4400-B80A-32E1EAEA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CC21-A436-4207-95D4-1EDE0D68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6152-43EC-4CA8-B529-FD5BF1C2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22EE-8DB8-4FE5-B5CA-38C127DD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2CD8-65BF-434A-9981-9D5E20F5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40E0-F9F9-49A1-BAB5-D4A0B8F7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9104-F168-4F33-B0D4-3C84FCCA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49D994-D950-4CF6-BA7E-7A33491200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3A605E-9608-4E77-843C-E8DDD072E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of reliable distributed database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Shas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ingle segmented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erver process that responds to cl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server by keeping track of which segments are being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mall load balancing module that copies segments and adjusts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tend there is new hardware and drop that in to improve the performance of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e the data from one root database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roker to route queries to the least busy root database ser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error handling so that if one server cannot handle a query, another one 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air a root database that is missing some segments by copying from another root database. 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update as well as read transactions. Maintain a serializable order consistent with the arrival of the various transactions at the brok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: different queries can be accessing different parts of data concurrently and without inter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ossible uses such a locating data near its users are not an issue for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Use Replic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Distributed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: if one copy fails you can go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for read-mostly applications: can go to any rep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of Business/Financi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comes in tim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recent data is more heavily accessed than older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ch write. Trickle 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ing Things Out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“root database”, par.txt tells where all the distributed partitions 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tions must be disjoint, so no replication within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ion must come from multiple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go to all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can go to any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: failure of a segment in one root data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1: If a segment is down, use another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2: If segment is down in one root database, then copy from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3 (which is more complex): share segments in different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Load Bala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egments may be busier tha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y move segments from one site to another to balance l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up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Dropping in New Hard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like the drop-in to simply improv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usage of different segments in each root database and load balance to move some segments to the new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09:44:07Z</dcterms:created>
  <dc:creator>Dennis Shasha</dc:creator>
  <dc:description/>
  <dc:language>en-US</dc:language>
  <cp:lastModifiedBy>Dennis Shasha</cp:lastModifiedBy>
  <dcterms:modified xsi:type="dcterms:W3CDTF">2012-06-03T11:42:11Z</dcterms:modified>
  <cp:revision>6</cp:revision>
  <dc:subject/>
  <dc:title>Distribution and Replication in KDB</dc:title>
</cp:coreProperties>
</file>