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852D-8323-403D-AC9D-DC660203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8469-54CF-48F0-8FF3-CE8A7BB8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9CA0-9D01-4B1B-8935-948D7089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66F8-7D96-41C6-8A2A-FA802C53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B8CA-F944-4933-A26D-931A5A7E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DB36-315D-4341-B698-A6B13971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42F4-FC4C-48C6-BCB7-9AD50F28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8481-B42E-4575-A493-35DC6F1E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7E07-C7F7-4FE1-9F18-D3E06753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6A9B-0039-48D8-A277-404B3457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2CF9-FFDD-47DC-B31B-6D3F9348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2AA6-BFF9-415C-B23B-4B2AB82C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4453E3-975B-4FEF-865E-8AC383A094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646D8C-E108-4A24-888E-A5108E892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of reliable distributed database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Shas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ingle segmented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erver process that responds to cl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server by keeping track of which segments are being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mall load balancing module that copies segments and adjusts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tend there is new hardware and drop that in to improve the performance of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e the data from one root database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roker to route queries to the least busy root database ser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error handling so that if one server cannot handle a query, another one 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air a root database that is missing some segments by copying from another root database. 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update as well as read transactions. Maintain a serializable order consistent with the arrival of the various transactions at the brok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: different queries can be accessing different parts of data concurrently and without inter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ossible uses such a locating data near its users are not an issue for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Use Replic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Distributed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: if one copy fails you can go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for read-mostly applications: can go to any rep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of Business/Financi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comes in tim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recent data is more heavily accessed than older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ch write. Trickle 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ing Things Out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“root database”, par.txt tells where all the distributed partitions 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tions must be disjoint, so no replication within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ion must come from multiple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go to all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can go to any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: failure of a segment in one root data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1: If a segment is down, use another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2: If segment is down in one root database, then copy from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3 (which is more complex): share segments in different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Load Bala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egments may be busier tha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y move segments from one site to another to balance l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up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Dropping in New Hard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like the drop-in to simply improv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usage of different segments in each root database and load balance to move some segments to the new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09:44:07Z</dcterms:created>
  <dc:creator>Dennis Shasha</dc:creator>
  <dc:description/>
  <dc:language>en-US</dc:language>
  <cp:lastModifiedBy>Dennis Shasha</cp:lastModifiedBy>
  <dcterms:modified xsi:type="dcterms:W3CDTF">2012-06-03T11:42:11Z</dcterms:modified>
  <cp:revision>6</cp:revision>
  <dc:subject/>
  <dc:title>Distribution and Replication in KDB</dc:title>
</cp:coreProperties>
</file>