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6948-9395-4914-B5D2-F119D872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597-6FE3-4596-9FD2-4DFE3938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997-BDD7-4D0E-BEF7-43CD48FF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569-82F4-4D57-9EA5-F25C33CA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0A5E-6208-4577-979F-751C6232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22BD-6258-4C15-A28B-8348A25D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7CF0-2C42-42BB-A062-F71BE0CC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C59E-0A89-4EBC-A4A1-F76E8177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ADC9-8439-4867-B4B3-140628F1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B8F5-2C0D-445D-951F-669657C9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7C21-5907-44A1-9893-BF16C92C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65F8-29E0-4401-A852-9D86D49F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5ECF-231F-4DBF-AD19-82F48F50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17C1-E096-44A3-BA6A-BF0CE2FB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3952-4EE8-48A8-B0A4-CADAAADB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58A7-0486-484E-A9B1-C63E263C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F89F-185C-4644-980A-1299A2EC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94C-C011-4CF3-B402-BF96A87B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07A8-11EC-4B8E-8ADE-AE5D4C98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76D-A629-4E7B-BC28-C2039DCC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C9C-B8D0-4401-A7E8-5FFA403D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B3D6-726E-46AF-8B00-765FC56B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C1F-AAD1-4952-A9D0-05040717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811-4CF6-4991-9F56-0CEB3ADA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33B6-556A-4DE0-B6A6-47AF8CE46F2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70E8-87ED-4CD2-93EF-41B14717A14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erner@cs.ny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cs.nyu.edu/~lerner" TargetMode="External"/><Relationship Id="rId2" Type="http://schemas.openxmlformats.org/officeDocument/2006/relationships/hyperlink" Target="http://www.cs.nyu.edu/~lerner" TargetMode="External"/><Relationship Id="rId3" Type="http://schemas.openxmlformats.org/officeDocument/2006/relationships/hyperlink" Target="http://www.cs.nyu.edu/~lerner" TargetMode="External"/><Relationship Id="rId4" Type="http://schemas.openxmlformats.org/officeDocument/2006/relationships/hyperlink" Target="http://www.cs.nyu.edu/~lerner" TargetMode="External"/><Relationship Id="rId5" Type="http://schemas.openxmlformats.org/officeDocument/2006/relationships/hyperlink" Target="http://www.cs.nyu.edu/~lerner" TargetMode="External"/><Relationship Id="rId6" Type="http://schemas.openxmlformats.org/officeDocument/2006/relationships/hyperlink" Target="http://www.cs.nyu.edu/~lerner" TargetMode="External"/><Relationship Id="rId7" Type="http://schemas.openxmlformats.org/officeDocument/2006/relationships/hyperlink" Target="http://www.cs.nyu.edu/~lerner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uery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 D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atabase 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S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ystem for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O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rder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nnis Shash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Joint work with Alberto Lern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lerner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hasha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59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2895480"/>
            <a:ext cx="259092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6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2362320"/>
            <a:ext cx="8380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2044800"/>
            <a:ext cx="3353040" cy="317520"/>
          </a:xfrm>
          <a:custGeom>
            <a:avLst/>
            <a:gdLst/>
            <a:ahLst/>
            <a:rect l="l" t="t" r="r" b="b"/>
            <a:pathLst>
              <a:path w="2112" h="200">
                <a:moveTo>
                  <a:pt x="2112" y="200"/>
                </a:moveTo>
                <a:cubicBezTo>
                  <a:pt x="1640" y="108"/>
                  <a:pt x="1168" y="16"/>
                  <a:pt x="816" y="8"/>
                </a:cubicBezTo>
                <a:cubicBezTo>
                  <a:pt x="464" y="0"/>
                  <a:pt x="232" y="76"/>
                  <a:pt x="0" y="15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2286000"/>
            <a:ext cx="761760" cy="1828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80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20000" y="5807160"/>
            <a:ext cx="586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xpression are mappings from arrays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rr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236232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uilt-in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 Function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2971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281952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prev, nex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avgs, prds, sums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mins,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eltas, ratios, reverse,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05520" y="281952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rop, first, la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91240" y="33148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71080" y="473076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7140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6036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rank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n-</a:t>
            </a: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ti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min, max, avg, cou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14440" y="5562720"/>
            <a:ext cx="712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209680" y="3408480"/>
          <a:ext cx="4876920" cy="200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08480"/>
                    <a:ext cx="487692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14440" y="5562360"/>
            <a:ext cx="7120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ins(price)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15 15 15 15 15 13 5 5 5  5  5  5  5 5 2 2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0  4  1  2  0  0  0 3 2  8  6  9  0 0 0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286000" y="3352680"/>
          <a:ext cx="4853160" cy="19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52680"/>
                    <a:ext cx="485316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295280" y="6172200"/>
            <a:ext cx="6629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5486400"/>
            <a:ext cx="38088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Best-profit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uery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C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mparis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AQuery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price–mins(price)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ASSUMING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tradeDate=‘1/10/03'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7200" y="2214360"/>
            <a:ext cx="4276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SQL:1999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rdif)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(SELECT ID,tradeDate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- min(pric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V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(PARTITION BY ID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,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          tradeDa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RDER BY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ROWS UNBOUNDED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ECEDING) AS rdif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) AS t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 tradeDate=‘1/10/03'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5105520"/>
            <a:ext cx="243864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328" y="8827"/>
                </a:moveTo>
                <a:lnTo>
                  <a:pt x="22275" y="2492"/>
                </a:lnTo>
              </a:path>
              <a:path w="21600" h="21600">
                <a:moveTo>
                  <a:pt x="22275" y="0"/>
                </a:moveTo>
                <a:lnTo>
                  <a:pt x="22275" y="21600"/>
                </a:ln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Optimizer doesn’t</a:t>
            </a:r>
            <a:br>
              <a:rPr sz="1400"/>
            </a:b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push this selection. To get good performance, the query author has to rewrite it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est-profit Query 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600200" y="2357280"/>
          <a:ext cx="6705720" cy="334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57280"/>
                    <a:ext cx="670572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omplex queries: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</a:t>
            </a:r>
            <a:br>
              <a:rPr sz="4000"/>
            </a:b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Revisited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Create a log of flow information. A flow from src to dest ends after a 2-minutes sil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24280" y="2421000"/>
            <a:ext cx="42674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748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e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32400" y="2362320"/>
            <a:ext cx="51300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23623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p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74768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33520" y="2362320"/>
            <a:ext cx="45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6856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Motivation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The need for ordered data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ries in Finance, Biology, and Network Management depend on orde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QL 99 has extensions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OLAP amendment – that incorporate order to the language but they are clumsy to us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40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24280" y="2421000"/>
            <a:ext cx="350532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0492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0280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8324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3176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ASSUMING ORDER src, dst, tim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6556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54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deltas(time) &gt; 120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6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ums (deltas(time) &gt; 120</a:t>
            </a:r>
            <a:r>
              <a:rPr b="0" lang="pt-BR" sz="16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GROUP 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0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2880" y="3868560"/>
            <a:ext cx="403884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878600" y="3809880"/>
            <a:ext cx="8877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ount(*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66480" y="380988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46560" y="380988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50200" y="3809880"/>
            <a:ext cx="9489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avg(len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6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005360" y="3343320"/>
          <a:ext cx="1135080" cy="1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5360" y="3343320"/>
                    <a:ext cx="1135080" cy="1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1633680" y="2428920"/>
          <a:ext cx="6111720" cy="309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3680" y="2428920"/>
                    <a:ext cx="61117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rder-aware Query Languag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Relations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quences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nd ordered-rel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QL:1999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quin (Seshadri et al., 96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RQL (Ramakrishnan et al., 98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rouping in SQL (Chatziantoniou and Ross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ray query languag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QL (Libkin et al.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ML (Marathe and Salem, 97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aSQL (Widmann and Baumann, 98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SQL (KX Systems) – our direct ancest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-related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timization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echniqu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arburst’s “glue” (Lohman 88) and Exodus/Volcano “Enforcers” (Graefe and McKeena, 93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B2 Order optimization (Simmens et al., 96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p-k query optimization (Carey and Kossman, 97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; Bruno,Chaudhuri, and Gravano 0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ash-based order-preserving join (Claussen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emporal query optimization addressing order and duplicates (Slivinskas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AQuery Optimizat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is cost bas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main strategies ar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fine the extent of the order-preserving region of the plan, considering (correctness, obviously, and) the performance of variation of operat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algebraic equival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y efficient implementations of patterns of operators (e.g. “edge-by”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wrong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296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740040" y="2362320"/>
            <a:ext cx="4863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t2.sales+t3.sales)/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, Sales t2,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R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1 = t2.month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91360" y="393372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219320" y="2743200"/>
            <a:ext cx="7320240" cy="2091600"/>
            <a:chOff x="1219320" y="2743200"/>
            <a:chExt cx="7320240" cy="2091600"/>
          </a:xfrm>
        </p:grpSpPr>
        <p:sp>
          <p:nvSpPr>
            <p:cNvPr id="303" name=""/>
            <p:cNvSpPr/>
            <p:nvPr/>
          </p:nvSpPr>
          <p:spPr>
            <a:xfrm flipV="1"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7560" y="4375080"/>
              <a:ext cx="51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Join eliminates first two months!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333240" y="2895480"/>
            <a:ext cx="6046200" cy="2654280"/>
            <a:chOff x="3333240" y="2895480"/>
            <a:chExt cx="6046200" cy="2654280"/>
          </a:xfrm>
        </p:grpSpPr>
        <p:sp>
          <p:nvSpPr>
            <p:cNvPr id="307" name=""/>
            <p:cNvSpPr/>
            <p:nvPr/>
          </p:nvSpPr>
          <p:spPr>
            <a:xfrm>
              <a:off x="4724280" y="2895480"/>
              <a:ext cx="365760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33240" y="4724280"/>
              <a:ext cx="60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Do we really need a three-way join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Can the optimizer make it linear-time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762120" y="219240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SELECT ts.ID, avgs(10, hq.ClosePrice)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FROM   TradedStocks AS ts NATURAL JOIN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HistoricQuotes AS hq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ASSUMING ORDER hq.TradeDat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GROUP  BY I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Interchange sorting + order preserving operator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5" name=""/>
          <p:cNvSpPr/>
          <p:nvPr/>
        </p:nvSpPr>
        <p:spPr>
          <a:xfrm>
            <a:off x="528840" y="5764320"/>
            <a:ext cx="193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1) Sort then joi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eserving 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17400" y="5780160"/>
            <a:ext cx="229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2) Preserve exist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5280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3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efore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971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58680" y="533412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339920" y="48765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0350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27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1644480" y="4876920"/>
            <a:ext cx="15264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56852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56852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618000" y="48924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38098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90076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3216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5594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072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6092640" y="53337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4692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4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fter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99452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153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65324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009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818676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8001000" y="43430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72680" y="3581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35480" y="36990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82640" y="4038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761280" y="41562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686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472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8260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1046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48769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38680" y="44956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39625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37160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137124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52388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52388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295280" y="48765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581280" y="489096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657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621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429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3428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33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29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715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714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15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943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5907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94360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590724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803736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800100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5328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8487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6360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2100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63868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4072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3526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3084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 depends on siz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565280" y="2749680"/>
          <a:ext cx="6546960" cy="29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2749680"/>
                    <a:ext cx="654696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6353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last(price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t,base b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SSUMING ORDER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name,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imestamp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t.ID=b.ID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ND name=“x”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30480" y="396252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78168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678132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8660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8168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164000" y="5638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20280" y="5638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400800" y="525780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162920" y="533412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934320" y="441972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4080" y="497376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35280" y="408312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71480" y="320040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143000" y="4665600"/>
            <a:ext cx="380988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06680" y="4606920"/>
            <a:ext cx="62712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ri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00000" y="4606920"/>
            <a:ext cx="61668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a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46069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19760" y="460692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ck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95000" y="46069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52480" y="5545080"/>
            <a:ext cx="236232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09840" y="5486400"/>
            <a:ext cx="72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na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43200" y="548640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54440" y="548640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ba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sort on name can be eliminated because there will be only one na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n, push so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  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lo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30480" y="31240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5280" y="324468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422440" y="499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731520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731484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57200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457164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720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59056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092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3352680"/>
            <a:ext cx="304560" cy="106704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192" y="0"/>
                </a:moveTo>
                <a:cubicBezTo>
                  <a:pt x="96" y="112"/>
                  <a:pt x="0" y="224"/>
                  <a:pt x="0" y="336"/>
                </a:cubicBezTo>
                <a:cubicBezTo>
                  <a:pt x="0" y="448"/>
                  <a:pt x="96" y="560"/>
                  <a:pt x="192" y="67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210360" y="4444920"/>
            <a:ext cx="266760" cy="35568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168" y="32"/>
                </a:moveTo>
                <a:cubicBezTo>
                  <a:pt x="108" y="16"/>
                  <a:pt x="48" y="0"/>
                  <a:pt x="24" y="32"/>
                </a:cubicBezTo>
                <a:cubicBezTo>
                  <a:pt x="0" y="64"/>
                  <a:pt x="12" y="144"/>
                  <a:pt x="24" y="22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projection is carrying an implicit selection: last(price) = price[n], where n is the last index of the price arr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[i]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order(r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16640" y="39416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78168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678132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8168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164000" y="48560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0280" y="3865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400800" y="356076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7162920" y="363708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84080" y="32767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05000" y="40942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467480" y="439884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88040" y="304812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4160" y="2666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715000" y="23623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48200" y="2743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20840" y="20574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563800" y="198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24480" y="2158920"/>
            <a:ext cx="457200" cy="355680"/>
          </a:xfrm>
          <a:custGeom>
            <a:avLst/>
            <a:gdLst/>
            <a:ahLst/>
            <a:rect l="l" t="t" r="r" b="b"/>
            <a:pathLst>
              <a:path w="288" h="224">
                <a:moveTo>
                  <a:pt x="288" y="224"/>
                </a:moveTo>
                <a:cubicBezTo>
                  <a:pt x="288" y="144"/>
                  <a:pt x="288" y="64"/>
                  <a:pt x="240" y="32"/>
                </a:cubicBezTo>
                <a:cubicBezTo>
                  <a:pt x="192" y="0"/>
                  <a:pt x="96" y="16"/>
                  <a:pt x="0" y="3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3080" y="2666880"/>
            <a:ext cx="266760" cy="228600"/>
          </a:xfrm>
          <a:custGeom>
            <a:avLst/>
            <a:gdLst/>
            <a:ahLst/>
            <a:rect l="l" t="t" r="r" b="b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60" y="132"/>
                  <a:pt x="0" y="14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13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why join the entire relation if we are only using the last tupl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n we somehow push the last selection down the join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067160" y="324468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507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e can take the last position of each ID on ticks to reduce cardinality, but we need to group by ticks.ID fir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trading a join for a group by is usually a good deal?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e more step: make this an “edge by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64000" y="5562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0880" y="64008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34400" y="32446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54380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248520" y="51814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70200" y="4921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7320" y="4724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45760" y="5562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81080" y="5683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6248520" y="60199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51840" y="4692600"/>
            <a:ext cx="50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-25000">
                <a:solidFill>
                  <a:srgbClr val="003366"/>
                </a:solidFill>
                <a:latin typeface="Times New Roman"/>
              </a:rPr>
              <a:t>e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738440" y="2811600"/>
          <a:ext cx="5957640" cy="25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2811600"/>
                    <a:ext cx="595764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Query declaratively incorporates order in a per-query bas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y clause can rely on order; expressions can be order-depend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possibilities are vast; performance improvements of an order of magnitu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lications to Finance, Biology, Linguistics, 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cs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ny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7"/>
              </a:rPr>
              <a:t>/~lerne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for additional reference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hard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11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739320" y="2362320"/>
            <a:ext cx="5330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AS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*t1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ot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 t2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+(t1.sales+t2.sales)/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LSE t2.sales + t3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ND) /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1 = t2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2920" y="43434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95720" y="2666880"/>
            <a:ext cx="8496000" cy="2572920"/>
            <a:chOff x="495720" y="2666880"/>
            <a:chExt cx="8496000" cy="2572920"/>
          </a:xfrm>
        </p:grpSpPr>
        <p:sp>
          <p:nvSpPr>
            <p:cNvPr id="318" name=""/>
            <p:cNvSpPr/>
            <p:nvPr/>
          </p:nvSpPr>
          <p:spPr>
            <a:xfrm>
              <a:off x="495720" y="4780080"/>
              <a:ext cx="31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“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Write-once” quer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8320" y="2666880"/>
              <a:ext cx="4343400" cy="2438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51520" y="5105520"/>
            <a:ext cx="8440200" cy="1371600"/>
            <a:chOff x="551520" y="5105520"/>
            <a:chExt cx="8440200" cy="1371600"/>
          </a:xfrm>
        </p:grpSpPr>
        <p:sp>
          <p:nvSpPr>
            <p:cNvPr id="321" name=""/>
            <p:cNvSpPr/>
            <p:nvPr/>
          </p:nvSpPr>
          <p:spPr>
            <a:xfrm>
              <a:off x="4648320" y="5105520"/>
              <a:ext cx="4343400" cy="1371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1520" y="5181480"/>
              <a:ext cx="25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Three way joi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OLAP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25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737880" y="2362320"/>
            <a:ext cx="510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vg(sales) OVER (ORDER BY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ROWS BETWE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 PRECEDING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URRENT ROW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1360" y="403848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36640" y="2590920"/>
            <a:ext cx="5378760" cy="3111840"/>
            <a:chOff x="3536640" y="2590920"/>
            <a:chExt cx="5378760" cy="3111840"/>
          </a:xfrm>
        </p:grpSpPr>
        <p:sp>
          <p:nvSpPr>
            <p:cNvPr id="332" name=""/>
            <p:cNvSpPr/>
            <p:nvPr/>
          </p:nvSpPr>
          <p:spPr>
            <a:xfrm>
              <a:off x="3536640" y="4511520"/>
              <a:ext cx="535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OVER construct  is confined to the 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SELECT claus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wkward synta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72200" y="2590920"/>
              <a:ext cx="2743200" cy="129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35" name=""/>
          <p:cNvSpPr/>
          <p:nvPr/>
        </p:nvSpPr>
        <p:spPr>
          <a:xfrm>
            <a:off x="809640" y="2214720"/>
            <a:ext cx="361008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Find duration and average length of packets of src-dst flows. A flow from src to dest ends after a 2-minute silen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95480" y="4003560"/>
            <a:ext cx="3089160" cy="301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18720" y="399564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75440" y="399564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92320" y="399564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66400" y="3995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6440" y="399564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48320" y="2282760"/>
            <a:ext cx="44956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6664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ITH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Prec AS (src,dst,len,time,ptime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min(time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acket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PARTITION BY src,dst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ORDER BY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BETWEEN 1 PRECEDING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AND 1 PRECEEDING)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 AS (src,dst,len,time,flag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CAS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HEN time-ptime &gt; 120 THEN 1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ELSE 0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rec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ID AS (src,dst,len,time,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ID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sum(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lag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ORDER BY src,dst,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UNBOUNDED PRECEDING)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count(*),avg(len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ROM 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ID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GROUP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BY src,dst,fID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r-tuple operations require joins or additional query constructs - or both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rdering can only be obtained in specific clauses (e.g.,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ttom lin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Queries become difficult to re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st of execution is larger than necessary (optimization of nested queries is still an open problem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 in SQL:1999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3366"/>
                </a:solidFill>
                <a:latin typeface="Garamond"/>
              </a:rPr>
              <a:t>Idea</a:t>
            </a:r>
            <a:endParaRPr b="0" lang="en-US" sz="47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place ordered tables (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rrabl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for tables in the data model (inspiration from KSQL by KX system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hatever can be done on a table can be done on an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arrab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. Not vice-versa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efin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rder on a per-query bas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ll query clauses can count on data order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intain SQL flavor (upward compatibility to SQL 92) while allowing expressions based on order with no additional language constru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optimization techniques involving ord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Times New Roman"/>
              </a:rPr>
              <a:t>That’s AQuery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76520" y="3789360"/>
            <a:ext cx="6652440" cy="934560"/>
            <a:chOff x="1676520" y="3789360"/>
            <a:chExt cx="6652440" cy="934560"/>
          </a:xfrm>
        </p:grpSpPr>
        <p:sp>
          <p:nvSpPr>
            <p:cNvPr id="354" name=""/>
            <p:cNvSpPr/>
            <p:nvPr/>
          </p:nvSpPr>
          <p:spPr>
            <a:xfrm flipH="1" flipV="1">
              <a:off x="1676520" y="4190760"/>
              <a:ext cx="30456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981080" y="4190760"/>
              <a:ext cx="30492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981080" y="4190760"/>
              <a:ext cx="106704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07480" y="3789360"/>
              <a:ext cx="48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ble: a collection of named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ys, ordered by a column lis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0:41:36Z</dcterms:created>
  <dc:creator>lerner</dc:creator>
  <dc:description/>
  <dc:language>en-US</dc:language>
  <cp:lastModifiedBy>dshasha</cp:lastModifiedBy>
  <dcterms:modified xsi:type="dcterms:W3CDTF">2004-10-13T20:46:22Z</dcterms:modified>
  <cp:revision>52</cp:revision>
  <dc:subject/>
  <dc:title>Challenge</dc:title>
</cp:coreProperties>
</file>