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E63-1A14-4959-9A81-8849CEC2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3BD-31D1-4EBF-959E-D5FE0E8B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1CE1-7FC9-4725-9D03-2573C7E5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F27D-CAF3-49C8-B112-82189EF6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BAB6-1E2A-41AD-A1EE-5099626A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EBB8-22D3-48A1-B672-F6A7AEA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0E07-298C-40AF-9E7B-0D502909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550-0B4A-43B9-AF11-355FE964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B192-F864-49BE-849C-9CB76386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1254-7262-4B4E-8C22-CC5DDBAD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6700-6B5E-440E-95C7-EED9A982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FA1-7A1F-45E9-8A0B-5BDEECC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B421-EFAA-435C-9B66-67D9E86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FE31-3418-4EAD-8455-072DFD8D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253F-1874-47B4-A5C2-B679FB4F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F8D-8A9D-448D-A87A-792EC3B0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D97B-8F81-444F-B7A2-AC2E6F8F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F40-9350-4862-BE00-5675AA2D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1D5-3135-4D56-B63D-EF38D4AC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17F4-857F-4349-9571-4FDE523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276-979A-47D3-ABE7-430299F9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783-0B9C-4C3B-8A5C-5C87D78A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894-492A-4A74-8524-1848047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8C0-3085-4A3E-B263-87D010C4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723C-D6E9-4C7E-981B-B7834C2B340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57D-DFE6-41F9-9F1A-4CAFB957544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erner@cs.ny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cs.nyu.edu/~lerner" TargetMode="External"/><Relationship Id="rId2" Type="http://schemas.openxmlformats.org/officeDocument/2006/relationships/hyperlink" Target="http://www.cs.nyu.edu/~lerner" TargetMode="External"/><Relationship Id="rId3" Type="http://schemas.openxmlformats.org/officeDocument/2006/relationships/hyperlink" Target="http://www.cs.nyu.edu/~lerner" TargetMode="External"/><Relationship Id="rId4" Type="http://schemas.openxmlformats.org/officeDocument/2006/relationships/hyperlink" Target="http://www.cs.nyu.edu/~lerner" TargetMode="External"/><Relationship Id="rId5" Type="http://schemas.openxmlformats.org/officeDocument/2006/relationships/hyperlink" Target="http://www.cs.nyu.edu/~lerner" TargetMode="External"/><Relationship Id="rId6" Type="http://schemas.openxmlformats.org/officeDocument/2006/relationships/hyperlink" Target="http://www.cs.nyu.edu/~lerner" TargetMode="External"/><Relationship Id="rId7" Type="http://schemas.openxmlformats.org/officeDocument/2006/relationships/hyperlink" Target="http://www.cs.nyu.edu/~lerner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uery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A D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atabase 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S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ystem for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O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rder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90512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nnis Shash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Joint work with Alberto Lerner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lerner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hasha@cs.nyu.ed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895480"/>
            <a:ext cx="259092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2362320"/>
            <a:ext cx="838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52480" y="2044800"/>
            <a:ext cx="3353040" cy="317520"/>
          </a:xfrm>
          <a:custGeom>
            <a:avLst/>
            <a:gdLst/>
            <a:ahLst/>
            <a:rect l="l" t="t" r="r" b="b"/>
            <a:pathLst>
              <a:path w="2112" h="200">
                <a:moveTo>
                  <a:pt x="2112" y="200"/>
                </a:moveTo>
                <a:cubicBezTo>
                  <a:pt x="1640" y="108"/>
                  <a:pt x="1168" y="16"/>
                  <a:pt x="816" y="8"/>
                </a:cubicBezTo>
                <a:cubicBezTo>
                  <a:pt x="464" y="0"/>
                  <a:pt x="232" y="76"/>
                  <a:pt x="0" y="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2286000"/>
            <a:ext cx="761760" cy="1828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07480" y="3789360"/>
            <a:ext cx="48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ble: a collection of name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arrays, ordered by a column li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89120" y="4587840"/>
            <a:ext cx="52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ach query defines data order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1720" y="5076720"/>
            <a:ext cx="52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Variables (e.g., month) are bound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n array, as opposed to a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420000" y="5807160"/>
            <a:ext cx="58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Expression are mappings from array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to arr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236232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uilt-in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 Function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971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281952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prev, nex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avgs, prds, sums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mins,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eltas, ratios, reverse,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281952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drop, first, la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1240" y="331488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71080" y="473076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order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pend</a:t>
            </a:r>
            <a:r>
              <a:rPr b="0" lang="pt-BR" sz="1800" spc="-1" strike="noStrike">
                <a:solidFill>
                  <a:srgbClr val="003366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7140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60360" y="213984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on size-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eserv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4343400"/>
            <a:ext cx="243864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rank, </a:t>
            </a:r>
            <a:r>
              <a:rPr b="0" lang="pt-BR" sz="1800" spc="-1" strike="noStrike">
                <a:solidFill>
                  <a:srgbClr val="003366"/>
                </a:solidFill>
                <a:latin typeface="Garamond"/>
              </a:rPr>
              <a:t>n-</a:t>
            </a: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til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4343400"/>
            <a:ext cx="2438280" cy="1523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Garamond"/>
              </a:rPr>
              <a:t>min, max, avg, coun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14440" y="5562720"/>
            <a:ext cx="712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2209680" y="3408480"/>
          <a:ext cx="4876920" cy="200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08480"/>
                    <a:ext cx="487692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Emotiv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14440" y="5562360"/>
            <a:ext cx="7120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     </a:t>
            </a:r>
            <a:r>
              <a:rPr b="0" lang="en-US" sz="1300" spc="-1" strike="noStrike">
                <a:solidFill>
                  <a:srgbClr val="003366"/>
                </a:solidFill>
                <a:latin typeface="Courier New"/>
              </a:rPr>
              <a:t>15 19 16 17 15 13 5 8 7 13 11 14 10 5 2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ins(price)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15 15 15 15 15 13 5 5 5  5  5  5  5 5 2 2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pt-BR" sz="1300" spc="-1" strike="noStrike">
                <a:solidFill>
                  <a:srgbClr val="003366"/>
                </a:solidFill>
                <a:latin typeface="Courier New"/>
              </a:rPr>
              <a:t>0  4  1  2  0  0  0 3 2  8  6  9  0 0 0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0" y="3352680"/>
          <a:ext cx="485316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2680"/>
                    <a:ext cx="485316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295280" y="6172200"/>
            <a:ext cx="66294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5486400"/>
            <a:ext cx="380880" cy="9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5040" y="22654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Find the best profit one could make by buying a stock a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Garamond"/>
              </a:rPr>
              <a:t>selling it later in the same da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Best-profit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Q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uery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C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mparis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AQuery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price–mins(price)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ASSUMING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tradeDate=‘1/10/03'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7200" y="2214360"/>
            <a:ext cx="4276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[SQL:1999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max(rdif)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(SELECT ID,tradeDate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ice - min(price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VE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(PARTITION BY ID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,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               tradeDa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ORDER BY timestamp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ROWS UNBOUNDED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PRECEDING) AS rdif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) AS t1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 ID=“S”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AND   tradeDate=‘1/10/03'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5105520"/>
            <a:ext cx="243864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3328" y="8827"/>
                </a:moveTo>
                <a:lnTo>
                  <a:pt x="22275" y="2492"/>
                </a:lnTo>
              </a:path>
              <a:path w="21600" h="21600">
                <a:moveTo>
                  <a:pt x="22275" y="0"/>
                </a:moveTo>
                <a:lnTo>
                  <a:pt x="22275" y="21600"/>
                </a:ln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Optimizer doesn’t</a:t>
            </a:r>
            <a:br>
              <a:rPr sz="1400"/>
            </a:br>
            <a:r>
              <a:rPr b="0" lang="pt-BR" sz="1400" spc="-1" strike="noStrike">
                <a:solidFill>
                  <a:srgbClr val="003366"/>
                </a:solidFill>
                <a:latin typeface="Times New Roman"/>
              </a:rPr>
              <a:t>push this selection. To get good performance, the query author has to rewrite it.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Best-profit Query 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600200" y="2357280"/>
          <a:ext cx="6705720" cy="33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57280"/>
                    <a:ext cx="670572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Complex queries: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</a:t>
            </a:r>
            <a:br>
              <a:rPr sz="4000"/>
            </a:b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Revisited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Create a log of flow information. A flow from src to dest ends after a 2-minutes sil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2421000"/>
            <a:ext cx="42674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748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e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32400" y="2362320"/>
            <a:ext cx="51300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23623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74768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33520" y="2362320"/>
            <a:ext cx="45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68560" y="23623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Motivat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The need for ordered data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ries in Finance, Biology, and Network Management depend on orde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QL 99 has extensions</a:t>
            </a:r>
            <a:r>
              <a:rPr b="0" lang="pt-BR" sz="32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OLAP amendment – that incorporate order to the language but they are clumsy to us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24280" y="2421000"/>
            <a:ext cx="350532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50492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0280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58324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63176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ASSUMING ORDER src, dst, tim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6556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deltas(time) &gt; 120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6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ums (deltas(time) &gt; 120</a:t>
            </a:r>
            <a:r>
              <a:rPr b="0" lang="pt-BR" sz="1600" spc="-1" strike="noStrike">
                <a:solidFill>
                  <a:srgbClr val="ff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5268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F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08160" y="2362320"/>
            <a:ext cx="3880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GROUP  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in Pictures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706320" y="2421000"/>
            <a:ext cx="348480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6440" y="236232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184840" y="236232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65280" y="236232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3800" y="2362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51055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ELECT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src, dst, count(*), avg(len)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Packet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src, dst, time </a:t>
            </a:r>
            <a:br>
              <a:rPr sz="1600"/>
            </a:b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GROUP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BY src, dst, sums (deltas(time) &gt; 120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838240" y="236232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47920" y="3276720"/>
            <a:ext cx="75960" cy="228600"/>
          </a:xfrm>
          <a:custGeom>
            <a:avLst/>
            <a:gdLst>
              <a:gd name="textAreaLeft" fmla="*/ 48600 w 75960"/>
              <a:gd name="textAreaRight" fmla="*/ 7632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47920" y="35812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2421000"/>
            <a:ext cx="4038840" cy="2458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66280" y="2362320"/>
            <a:ext cx="11134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,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,150,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66480" y="236232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46560" y="236232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17720" y="2362320"/>
            <a:ext cx="12171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,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,280,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52880" y="3868560"/>
            <a:ext cx="403884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78600" y="3809880"/>
            <a:ext cx="8877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count(*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66480" y="3809880"/>
            <a:ext cx="51300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46560" y="3809880"/>
            <a:ext cx="47628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550200" y="3809880"/>
            <a:ext cx="948960" cy="119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avg(len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6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r>
              <a:rPr b="0" lang="en-US" sz="4000" spc="-1" strike="noStrike">
                <a:solidFill>
                  <a:srgbClr val="003366"/>
                </a:solidFill>
                <a:latin typeface="Garamond"/>
              </a:rPr>
              <a:t> </a:t>
            </a:r>
            <a:r>
              <a:rPr b="0" lang="pt-BR" sz="40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0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4005360" y="3343320"/>
          <a:ext cx="1135080" cy="16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5360" y="3343320"/>
                    <a:ext cx="1135080" cy="1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1633680" y="2428920"/>
          <a:ext cx="611172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2428920"/>
                    <a:ext cx="611172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rder-aware Query Languag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Relations,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quences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and ordered-rel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QL: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equin (Seshadri et al., 96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RQL (Ramakrishnan et al., 98)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Grouping in SQL (Chatziantoniou and Ross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ray query languag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QL (Libkin et al., 9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ML (Marathe and Salem, 9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aSQL (Widmann and Baumann, 98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KSQL (KX Systems) – our direct ances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-related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timization 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</a:t>
            </a: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echniqu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tarburst’s “glue” (Lohman 88) and Exodus/Volcano “Enforcers” (Graefe and McKeena, 93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B2 Order optimization (Simmens et al., 96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-k query optimization (Carey and Kossman, 97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; Bruno,Chaudhuri, and Gravano 0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ash-based order-preserving join (Claussen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emporal query optimization addressing order and duplicates (Slivinskas et al., 01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AQuery Optimizat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is cost bas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main strategies ar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fine the extent of the order-preserving region of the plan, considering (correctness, obviously, and) the performance of variation of operat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algebraic equivale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y efficient implementations of patterns of operators (e.g. “edge-by”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wrong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296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740040" y="2362320"/>
            <a:ext cx="4863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t2.sales+t3.sales)/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, Sales t2,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R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1 = t2.month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91360" y="393372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2743200"/>
            <a:ext cx="7320240" cy="2091600"/>
            <a:chOff x="1219320" y="2743200"/>
            <a:chExt cx="7320240" cy="2091600"/>
          </a:xfrm>
        </p:grpSpPr>
        <p:sp>
          <p:nvSpPr>
            <p:cNvPr id="303" name=""/>
            <p:cNvSpPr/>
            <p:nvPr/>
          </p:nvSpPr>
          <p:spPr>
            <a:xfrm flipV="1"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743200"/>
              <a:ext cx="220968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7560" y="4375080"/>
              <a:ext cx="51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Join eliminates first two months!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333240" y="2895480"/>
            <a:ext cx="6046200" cy="2654280"/>
            <a:chOff x="3333240" y="2895480"/>
            <a:chExt cx="6046200" cy="2654280"/>
          </a:xfrm>
        </p:grpSpPr>
        <p:sp>
          <p:nvSpPr>
            <p:cNvPr id="307" name=""/>
            <p:cNvSpPr/>
            <p:nvPr/>
          </p:nvSpPr>
          <p:spPr>
            <a:xfrm>
              <a:off x="4724280" y="2895480"/>
              <a:ext cx="36576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33240" y="4724280"/>
              <a:ext cx="60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Do we really need a three-way join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Can the optimizer make it linear-time?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219240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SELECT ts.ID, avgs(10, hq.ClosePric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FROM   TradedStocks AS ts NATURAL JOIN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HistoricQuotes AS hq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      ASSUMING ORDER hq.TradeDat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GROUP  BY I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Interchange sorting + order preserving operator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535" name=""/>
          <p:cNvSpPr/>
          <p:nvPr/>
        </p:nvSpPr>
        <p:spPr>
          <a:xfrm>
            <a:off x="528840" y="5764320"/>
            <a:ext cx="193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1) Sort then jo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reserving 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17400" y="5780160"/>
            <a:ext cx="22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2) Preserve exist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5280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3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efore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971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58680" y="533412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339920" y="48765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0350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272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1644480" y="4876920"/>
            <a:ext cx="15264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56852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56852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618000" y="48924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8098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590076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3216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5594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07200" y="5410080"/>
            <a:ext cx="7596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6092640" y="5333760"/>
            <a:ext cx="7596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46920" y="5780160"/>
            <a:ext cx="19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4) Join then so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fter group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994520" y="490680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4153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65324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00960" y="5410080"/>
            <a:ext cx="7632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818676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1000" y="43430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372680" y="35812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5480" y="36990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82640" y="40384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761280" y="415620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686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472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826040" y="3505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104680" y="3622680"/>
            <a:ext cx="62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vgs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14400" y="48769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638680" y="4495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396252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37160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1371240" y="45716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71600" y="45720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523880" y="44193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523880" y="3962160"/>
            <a:ext cx="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295280" y="48765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3581280" y="489096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657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621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3429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3428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33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29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71500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714640" y="51051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43600" y="44208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5907240" y="44193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594360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590724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8037360" y="3887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8001000" y="388584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7848720" y="5105160"/>
            <a:ext cx="30456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15328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48720" y="51055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360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2100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638680" y="4022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740720" y="44798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35268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308400" y="5333760"/>
            <a:ext cx="76320" cy="759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 depends on siz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565280" y="2749680"/>
          <a:ext cx="6546960" cy="29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5280" y="2749680"/>
                    <a:ext cx="65469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63532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SELECT last(price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FROM   ticks t,base b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SSUMING ORDER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name,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imestam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WHERE  t.ID=b.ID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       AND name=“x”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30480" y="39625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78168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6781320" y="502884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8660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81680" y="502920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164000" y="5638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20280" y="5638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400800" y="525780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162920" y="533412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934320" y="441972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4080" y="497376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35280" y="408312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071480" y="320040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43000" y="4665600"/>
            <a:ext cx="380988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06680" y="4606920"/>
            <a:ext cx="62712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ric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00000" y="4606920"/>
            <a:ext cx="61668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at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460692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319760" y="460692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ck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95000" y="4606920"/>
            <a:ext cx="56484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5545080"/>
            <a:ext cx="2362320" cy="246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09840" y="5486400"/>
            <a:ext cx="720360" cy="642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5486400"/>
            <a:ext cx="476280" cy="6116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66"/>
                </a:solidFill>
                <a:latin typeface="Arial Narrow"/>
              </a:rPr>
              <a:t>I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440" y="548640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sort on name can be eliminated because there will be only one na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n, push sor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  </a:t>
            </a:r>
            <a:r>
              <a:rPr b="0" lang="en-US" sz="2400" spc="-1" strike="noStrike" baseline="30000">
                <a:solidFill>
                  <a:srgbClr val="003366"/>
                </a:solidFill>
                <a:latin typeface="Times New Roman"/>
              </a:rPr>
              <a:t>lop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30480" y="3124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r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5280" y="324468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,timesam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422440" y="499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731520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7314840" y="3428640"/>
            <a:ext cx="228600" cy="2286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457200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457164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5720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9092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590560" y="4267080"/>
            <a:ext cx="15228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590920" y="426708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352680"/>
            <a:ext cx="304560" cy="106704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cubicBezTo>
                  <a:pt x="96" y="112"/>
                  <a:pt x="0" y="224"/>
                  <a:pt x="0" y="336"/>
                </a:cubicBezTo>
                <a:cubicBezTo>
                  <a:pt x="0" y="448"/>
                  <a:pt x="96" y="560"/>
                  <a:pt x="192" y="67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210360" y="4444920"/>
            <a:ext cx="266760" cy="355680"/>
          </a:xfrm>
          <a:custGeom>
            <a:avLst/>
            <a:gdLst/>
            <a:ahLst/>
            <a:rect l="l" t="t" r="r" b="b"/>
            <a:pathLst>
              <a:path w="168" h="224">
                <a:moveTo>
                  <a:pt x="168" y="32"/>
                </a:moveTo>
                <a:cubicBezTo>
                  <a:pt x="108" y="16"/>
                  <a:pt x="48" y="0"/>
                  <a:pt x="24" y="32"/>
                </a:cubicBezTo>
                <a:cubicBezTo>
                  <a:pt x="0" y="64"/>
                  <a:pt x="12" y="144"/>
                  <a:pt x="24" y="22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7592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he projection is carrying an implicit selection: last(price) = price[n], where n is the last index of the price arr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[i]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order(r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f(r.col)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i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r)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16640" y="394164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78168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6781320" y="333180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8660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81680" y="333216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164000" y="48560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0280" y="38656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6400800" y="356076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7162920" y="3637080"/>
            <a:ext cx="30456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84080" y="32767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05000" y="40942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68960" y="2514600"/>
            <a:ext cx="89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ast(price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7467480" y="439884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8040" y="304812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4160" y="2666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715000" y="23623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2743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20840" y="20574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5638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24480" y="2158920"/>
            <a:ext cx="457200" cy="355680"/>
          </a:xfrm>
          <a:custGeom>
            <a:avLst/>
            <a:gdLst/>
            <a:ahLst/>
            <a:rect l="l" t="t" r="r" b="b"/>
            <a:pathLst>
              <a:path w="288" h="224">
                <a:moveTo>
                  <a:pt x="288" y="224"/>
                </a:moveTo>
                <a:cubicBezTo>
                  <a:pt x="288" y="144"/>
                  <a:pt x="288" y="64"/>
                  <a:pt x="240" y="32"/>
                </a:cubicBezTo>
                <a:cubicBezTo>
                  <a:pt x="192" y="0"/>
                  <a:pt x="96" y="16"/>
                  <a:pt x="0" y="32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53080" y="2666880"/>
            <a:ext cx="266760" cy="228600"/>
          </a:xfrm>
          <a:custGeom>
            <a:avLst/>
            <a:gdLst/>
            <a:ahLst/>
            <a:rect l="l" t="t" r="r" b="b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60" y="132"/>
                  <a:pt x="0" y="144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13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why join the entire relation if we are only using the last tupl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e somehow push the last selection down the joi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164000" y="5715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020280" y="472428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067160" y="32446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46748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Last price for a name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507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e can take the last position of each ID on ticks to reduce cardinality, but we need to group by ticks.ID fir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ut trading a join for a group by is usually a good deal?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ne more step: make this an “edge by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66920" y="2397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16640" y="48006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78168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6781320" y="4190760"/>
            <a:ext cx="30492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8660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1640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0880" y="6400800"/>
            <a:ext cx="7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ck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6400800" y="4419720"/>
            <a:ext cx="304920" cy="38088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7162920" y="4495320"/>
            <a:ext cx="304560" cy="3812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934320" y="35812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934320" y="28195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084080" y="4135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0" y="3244680"/>
            <a:ext cx="6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05000" y="4952880"/>
            <a:ext cx="94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Name=“x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039800" y="2514600"/>
            <a:ext cx="532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7543800" y="525780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83120" y="3124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088040" y="3930480"/>
            <a:ext cx="40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lo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6248520" y="518148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370200" y="492120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pos()=las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7320" y="47242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45760" y="55627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b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81080" y="5683320"/>
            <a:ext cx="36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248520" y="6019920"/>
            <a:ext cx="0" cy="45720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51840" y="4692600"/>
            <a:ext cx="50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baseline="-25000">
                <a:solidFill>
                  <a:srgbClr val="003366"/>
                </a:solidFill>
                <a:latin typeface="Times New Roman"/>
              </a:rPr>
              <a:t>eac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1738440" y="2811600"/>
          <a:ext cx="5957640" cy="25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2811600"/>
                    <a:ext cx="595764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Query declaratively incorporates order in a per-query basi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ny clause can rely on order; expressions can be order-depend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ptimization possibilities are vast; performance improvements of an order of magnitud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pplications to Finance, Biology, Linguistics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cs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ny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edu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/~lerne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for additional reference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hard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11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39320" y="2362320"/>
            <a:ext cx="53308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1.month,t1.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(t1.sales+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ASE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*t1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WHEN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2.sales is not null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3.sales is nul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THEN t2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+(t1.sales+t2.sales)/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LSE t2.sales + t3.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END) / 3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 t1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2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1 = t2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LEFT OUTER JOIN Sales t3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652760"/>
                <a:tab algn="l" pos="2224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ON t1.month – 2 = t3.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2920" y="43434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95720" y="2666880"/>
            <a:ext cx="8496000" cy="2572920"/>
            <a:chOff x="495720" y="2666880"/>
            <a:chExt cx="8496000" cy="2572920"/>
          </a:xfrm>
        </p:grpSpPr>
        <p:sp>
          <p:nvSpPr>
            <p:cNvPr id="318" name=""/>
            <p:cNvSpPr/>
            <p:nvPr/>
          </p:nvSpPr>
          <p:spPr>
            <a:xfrm>
              <a:off x="495720" y="4780080"/>
              <a:ext cx="319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“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Write-once” query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8320" y="2666880"/>
              <a:ext cx="4343400" cy="2438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51520" y="5105520"/>
            <a:ext cx="8440200" cy="1371600"/>
            <a:chOff x="551520" y="5105520"/>
            <a:chExt cx="8440200" cy="1371600"/>
          </a:xfrm>
        </p:grpSpPr>
        <p:sp>
          <p:nvSpPr>
            <p:cNvPr id="321" name=""/>
            <p:cNvSpPr/>
            <p:nvPr/>
          </p:nvSpPr>
          <p:spPr>
            <a:xfrm>
              <a:off x="4648320" y="5105520"/>
              <a:ext cx="4343400" cy="13716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1520" y="5181480"/>
              <a:ext cx="25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Three way joi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3-month moving average: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the OLAP wa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844560" y="2327400"/>
            <a:ext cx="2432160" cy="1742760"/>
            <a:chOff x="844560" y="2327400"/>
            <a:chExt cx="2432160" cy="1742760"/>
          </a:xfrm>
        </p:grpSpPr>
        <p:sp>
          <p:nvSpPr>
            <p:cNvPr id="325" name=""/>
            <p:cNvSpPr/>
            <p:nvPr/>
          </p:nvSpPr>
          <p:spPr>
            <a:xfrm>
              <a:off x="844560" y="2327400"/>
              <a:ext cx="2432160" cy="3204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2330280"/>
              <a:ext cx="62280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sales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4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0440" y="2330280"/>
              <a:ext cx="65016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3-avg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0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1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20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36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0440" y="2330280"/>
              <a:ext cx="695880" cy="173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 </a:t>
              </a:r>
              <a:r>
                <a:rPr b="0" lang="pt-BR" sz="1600" spc="-1" strike="noStrike">
                  <a:solidFill>
                    <a:srgbClr val="003366"/>
                  </a:solidFill>
                  <a:latin typeface="Arial Narrow"/>
                </a:rPr>
                <a:t>mon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2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3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4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3366"/>
                  </a:solidFill>
                  <a:latin typeface="Arial Narrow"/>
                </a:rPr>
                <a:t>5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3737880" y="2362320"/>
            <a:ext cx="510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sales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vg(sales) OVER (ORDER BY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ROWS BETWE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2 PRECEDING A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CURRENT ROW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3090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591360" y="403848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Garamond"/>
              </a:rPr>
              <a:t>Problems?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36640" y="2590920"/>
            <a:ext cx="5378760" cy="3111840"/>
            <a:chOff x="3536640" y="2590920"/>
            <a:chExt cx="5378760" cy="3111840"/>
          </a:xfrm>
        </p:grpSpPr>
        <p:sp>
          <p:nvSpPr>
            <p:cNvPr id="332" name=""/>
            <p:cNvSpPr/>
            <p:nvPr/>
          </p:nvSpPr>
          <p:spPr>
            <a:xfrm>
              <a:off x="3536640" y="4511520"/>
              <a:ext cx="535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OVER construct  is confined to the 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SELECT claus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wkward syntax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2200" y="2590920"/>
              <a:ext cx="2743200" cy="129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Network Management Query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35" name=""/>
          <p:cNvSpPr/>
          <p:nvPr/>
        </p:nvSpPr>
        <p:spPr>
          <a:xfrm>
            <a:off x="809640" y="2214720"/>
            <a:ext cx="3610080" cy="38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Find duration and average length of packets of src-dst flows. A flow from src to dest ends after a 2-minute sile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95480" y="4003560"/>
            <a:ext cx="3089160" cy="301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8720" y="3995640"/>
            <a:ext cx="56484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7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5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75440" y="3995640"/>
            <a:ext cx="5130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ds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92320" y="3995640"/>
            <a:ext cx="47628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sr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s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66400" y="39956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Packe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6440" y="3995640"/>
            <a:ext cx="502200" cy="2014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pt-BR" sz="1800" spc="-1" strike="noStrike">
                <a:solidFill>
                  <a:srgbClr val="003366"/>
                </a:solidFill>
                <a:latin typeface="Arial Narrow"/>
              </a:rPr>
              <a:t>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5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7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3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28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30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282760"/>
            <a:ext cx="44956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56664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ITH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Prec AS (src,dst,len,time,ptime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min(time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acket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PARTITION BY src,dst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ORDER BY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BETWEEN 1 PRECEDING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AND 1 PRECEEDING)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 AS (src,dst,len,time,flag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CAS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HEN time-ptime &gt; 120 THEN 1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ELSE 0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Prec),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FlowID AS (src,dst,len,time,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ID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(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len,time,sum(f</a:t>
            </a:r>
            <a:r>
              <a:rPr b="0" lang="pt-BR" sz="1100" spc="-1" strike="noStrike">
                <a:solidFill>
                  <a:srgbClr val="003366"/>
                </a:solidFill>
                <a:latin typeface="Courier New"/>
              </a:rPr>
              <a:t>lag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) OVER 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FROM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 WINDOW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w AS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(ORDER BY src,dst, time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 ROWS UNBOUNDED PRECEDING)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src,dst,count(*),avg(len)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ROM 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FlowID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GROUP 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BY src,dst,fID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ter-tuple operations require joins or additional query constructs - or both!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rdering can only be obtained in specific clauses (e.g., </a:t>
            </a:r>
            <a:r>
              <a:rPr b="0" lang="pt-BR" sz="2800" spc="-1" strike="noStrike">
                <a:solidFill>
                  <a:srgbClr val="00336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tom lin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Queries become difficult to re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st of execution is larger than necessary (optimization of nested queries is still an open problem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Garamond"/>
              </a:rPr>
              <a:t>Order</a:t>
            </a: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 in SQL:1999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3366"/>
                </a:solidFill>
                <a:latin typeface="Garamond"/>
              </a:rPr>
              <a:t>Idea</a:t>
            </a:r>
            <a:endParaRPr b="0" lang="en-US" sz="47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place ordered tables (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arrabl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) for tables in the data model (inspiration from KSQL by KX systems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hatever can be done on a table can be done on an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arrable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. Not vice-versa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Defin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rder on a per-query basi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Times New Roman"/>
              </a:rPr>
              <a:t>All query clauses can count on data order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intain SQL flavor (upward compatibility to SQL 92) while allowing expressions based on order with no additional language constru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ploit optimization techniques involving orde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3366"/>
                </a:solidFill>
                <a:latin typeface="Times New Roman"/>
              </a:rPr>
              <a:t>That’s AQuery!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Moving average </a:t>
            </a:r>
            <a:br>
              <a:rPr sz="4400"/>
            </a:br>
            <a:r>
              <a:rPr b="0" lang="pt-BR" sz="4400" spc="-1" strike="noStrike">
                <a:solidFill>
                  <a:srgbClr val="003366"/>
                </a:solidFill>
                <a:latin typeface="Garamond"/>
              </a:rPr>
              <a:t>over Arrables</a:t>
            </a:r>
            <a:endParaRPr b="0" lang="en-US" sz="4400" spc="-1" strike="noStrike">
              <a:solidFill>
                <a:srgbClr val="003366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844560" y="2376360"/>
            <a:ext cx="2741760" cy="2556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14280" y="2330280"/>
            <a:ext cx="62280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4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49040" y="2330280"/>
            <a:ext cx="65016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3-avg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1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2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36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70440" y="2330280"/>
            <a:ext cx="695880" cy="1739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pt-BR" sz="1600" spc="-1" strike="noStrike">
                <a:solidFill>
                  <a:srgbClr val="003366"/>
                </a:solidFill>
                <a:latin typeface="Arial Narrow"/>
              </a:rPr>
              <a:t>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94120" y="2362320"/>
            <a:ext cx="364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ELECT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month,avgs(3,sales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FROM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S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ASSUMING ORDER month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676520" y="3789360"/>
            <a:ext cx="6652440" cy="934560"/>
            <a:chOff x="1676520" y="3789360"/>
            <a:chExt cx="6652440" cy="934560"/>
          </a:xfrm>
        </p:grpSpPr>
        <p:sp>
          <p:nvSpPr>
            <p:cNvPr id="354" name=""/>
            <p:cNvSpPr/>
            <p:nvPr/>
          </p:nvSpPr>
          <p:spPr>
            <a:xfrm flipH="1" flipV="1">
              <a:off x="1676520" y="4190760"/>
              <a:ext cx="30456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981080" y="4190760"/>
              <a:ext cx="30492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1981080" y="4190760"/>
              <a:ext cx="1067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7480" y="3789360"/>
              <a:ext cx="48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3366"/>
                </a:buClr>
                <a:buFont typeface="Garamon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 </a:t>
              </a: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ble: a collection of named</a:t>
              </a:r>
              <a:br>
                <a:rPr sz="2400"/>
              </a:br>
              <a:r>
                <a:rPr b="0" lang="pt-BR" sz="2400" spc="-1" strike="noStrike">
                  <a:solidFill>
                    <a:srgbClr val="003366"/>
                  </a:solidFill>
                  <a:latin typeface="Garamond"/>
                </a:rPr>
                <a:t>arrays, ordered by a column lis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0:41:36Z</dcterms:created>
  <dc:creator>lerner</dc:creator>
  <dc:description/>
  <dc:language>en-US</dc:language>
  <cp:lastModifiedBy>dshasha</cp:lastModifiedBy>
  <dcterms:modified xsi:type="dcterms:W3CDTF">2004-10-13T20:46:22Z</dcterms:modified>
  <cp:revision>52</cp:revision>
  <dc:subject/>
  <dc:title>Challenge</dc:title>
</cp:coreProperties>
</file>