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D679E7-4ED7-42B4-BC1C-80541F2CC4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74D8C-7B2A-4E62-9E25-E1EEAB8CD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71A429-A5FC-43FD-B275-13A2879384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B28733-35E2-4CD2-ABA9-D9B3D827DB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20EEF-3CEE-4277-AB92-05A00674F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3BD643-A8FE-4D00-92FF-05A4CC79A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4B527-F8DF-440B-8100-5527BD57A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1F1C4-0592-4411-9524-4BFE43CD6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7D28E-0DAF-4E7A-BB2D-B7D9B2829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C39E2-9C7B-4801-9E44-E5015D4BA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7BE7B-5F73-4944-8760-DBD4D762A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D2294-C27E-45A9-B29A-AECD75D9D2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F616F8-C39C-4775-9FC0-A035269FADBE}"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F8FA89-7403-4ED5-95A1-E70C12EEFB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s://qap.sdsu.edu/screening/breastcancer/facts.html"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atistics is Eas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ennis Shasha</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rom a book co-written with Manda Wils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ampling/Shuffle Approach</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ate a table that associates each outcome with the label D (drug) or P (placebo). Here is the beginning of such a 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62" name=""/>
          <p:cNvGraphicFramePr/>
          <p:nvPr/>
        </p:nvGraphicFramePr>
        <p:xfrm>
          <a:off x="1139760" y="3440160"/>
          <a:ext cx="6096240" cy="743040"/>
        </p:xfrm>
        <a:graphic>
          <a:graphicData uri="http://schemas.openxmlformats.org/drawingml/2006/table">
            <a:tbl>
              <a:tblPr/>
              <a:tblGrid>
                <a:gridCol w="1219320"/>
                <a:gridCol w="1219320"/>
                <a:gridCol w="1218960"/>
                <a:gridCol w="1219320"/>
                <a:gridCol w="121932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the Tabl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we take the table as given, then of course the entries associated with D have an average value of 63.7 and the placebo entries have average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now consider shuffling the labels among the entries. That causes a total loss of the connection between treatment and improv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Does Shuffling Do?</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null hypothesis is that the drug will have no greater effect than the placebo and therefore that the apparent effect we see is just due to chance (i.e. due to the individual characteristics of the people who received the drug).</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that is so, then quite often, any 10-person subset of the experimental subjects will have an average benefit of 13 or more than some other 10-person subset of the experimental subjec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at</a:t>
            </a:r>
            <a:r>
              <a:rPr b="0" lang="ja-JP" sz="2800" spc="-1" strike="noStrike">
                <a:solidFill>
                  <a:srgbClr val="000000"/>
                </a:solidFill>
                <a:latin typeface="Calibri"/>
              </a:rPr>
              <a:t>’</a:t>
            </a:r>
            <a:r>
              <a:rPr b="0" lang="en-US" sz="2800" spc="-1" strike="noStrike">
                <a:solidFill>
                  <a:srgbClr val="000000"/>
                </a:solidFill>
                <a:latin typeface="Calibri"/>
              </a:rPr>
              <a:t>s what shuffling simula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stablishing Significanc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after shuffling, the average of the values of the Drug entries is often (say more than 15% of the time) greater than the average of the values of the Placebo values by 63.7-50.7, then the apparent effectiveness of the drug in the experiment could be entirely due to chanc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very uncommon, then the drug may be doing something.</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this case p-value is 0.1%.</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ifferent numbers give different results</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6, 348, 162, 420, 440, 250, 389, 476, 288, 45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69, 361, 175, 433, 453, 263, 402, 489, 301, 46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difference in averages is still 13, but now the p-value is about 40%. Could easily be due to ch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ignificance vs. Importance</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try a different drug/placebo experiment on 1 million patients and the drug increases life by 5 years and 3 days whereas the placebo increases life by 5 years alo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might, because of the large sample size, give a low p-value (thus statistically signific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is it important? Do we care? Please ask this ques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fidence Interval</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fidence interval is the range of values a measurement is likely to tak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case of our first drug/placebo experiment, the difference of the average effect was about 13 (63.7 – 50.7).</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we say what this difference of the averages will be in 90% of the measurements we are likely to make? (90% </a:t>
            </a:r>
            <a:r>
              <a:rPr b="0" lang="ja-JP" sz="3200" spc="-1" strike="noStrike">
                <a:solidFill>
                  <a:srgbClr val="000000"/>
                </a:solidFill>
                <a:latin typeface="Calibri"/>
              </a:rPr>
              <a:t>“</a:t>
            </a:r>
            <a:r>
              <a:rPr b="0" lang="en-US" sz="3200" spc="-1" strike="noStrike">
                <a:solidFill>
                  <a:srgbClr val="000000"/>
                </a:solidFill>
                <a:latin typeface="Calibri"/>
              </a:rPr>
              <a:t>confidence interval</a:t>
            </a:r>
            <a:r>
              <a:rPr b="0" lang="ja-JP" sz="3200" spc="-1" strike="noStrike">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ootstrapping Procedure</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000 times, create a sample uniformly randomly with replacement of the drug values and separately the placebo values (keeping the labels) and then evaluate the difference of the aver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se differences. The 90% confidence interval falls between the 500</a:t>
            </a:r>
            <a:r>
              <a:rPr b="0" lang="en-US" sz="3200" spc="-1" strike="noStrike" baseline="30000">
                <a:solidFill>
                  <a:srgbClr val="000000"/>
                </a:solidFill>
                <a:latin typeface="Calibri"/>
              </a:rPr>
              <a:t>th</a:t>
            </a:r>
            <a:r>
              <a:rPr b="0" lang="en-US" sz="3200" spc="-1" strike="noStrike">
                <a:solidFill>
                  <a:srgbClr val="000000"/>
                </a:solidFill>
                <a:latin typeface="Calibri"/>
              </a:rPr>
              <a:t> difference and the 9,500</a:t>
            </a:r>
            <a:r>
              <a:rPr b="0" lang="en-US" sz="3200" spc="-1" strike="noStrike" baseline="30000">
                <a:solidFill>
                  <a:srgbClr val="000000"/>
                </a:solidFill>
                <a:latin typeface="Calibri"/>
              </a:rPr>
              <a:t>th</a:t>
            </a:r>
            <a:r>
              <a:rPr b="0" lang="en-US" sz="3200" spc="-1" strike="noStrike">
                <a:solidFill>
                  <a:srgbClr val="000000"/>
                </a:solidFill>
                <a:latin typeface="Calibri"/>
              </a:rPr>
              <a:t> difference in the sorted li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xample of Uniform Random with Replacement</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iginal placebo values were: </a:t>
            </a:r>
            <a:br>
              <a:rPr sz="3200"/>
            </a:br>
            <a:r>
              <a:rPr b="0" lang="en-US" sz="3200" spc="-1" strike="noStrike">
                <a:solidFill>
                  <a:srgbClr val="000000"/>
                </a:solidFill>
                <a:latin typeface="Calibri"/>
              </a:rPr>
              <a:t>54, 51, 58, 44, 55, 52, 42, 47, 58, 46</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one uniform random sample with replacement might be:</a:t>
            </a:r>
            <a:br>
              <a:rPr sz="3200"/>
            </a:br>
            <a:r>
              <a:rPr b="0" lang="en-US" sz="3200" spc="-1" strike="noStrike">
                <a:solidFill>
                  <a:srgbClr val="000000"/>
                </a:solidFill>
                <a:latin typeface="Calibri"/>
              </a:rPr>
              <a:t>55, 54, 51, 47, 55, 47, 54, 46, 54, 54</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te that some values are repeated and some are miss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erence in the averages yields a range of 7.81 to 18.11 for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different example…</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 difference of the averages of the 10,000 samples. Order them from lowest to highest. Suppose that -.4 is the 10</a:t>
            </a:r>
            <a:r>
              <a:rPr b="0" lang="en-US" sz="3200" spc="-1" strike="noStrike" baseline="30000">
                <a:solidFill>
                  <a:srgbClr val="000000"/>
                </a:solidFill>
                <a:latin typeface="Calibri"/>
              </a:rPr>
              <a:t>th</a:t>
            </a:r>
            <a:r>
              <a:rPr b="0" lang="en-US" sz="3200" spc="-1" strike="noStrike">
                <a:solidFill>
                  <a:srgbClr val="000000"/>
                </a:solidFill>
                <a:latin typeface="Calibri"/>
              </a:rPr>
              <a:t> percentile and 8.1 is the 90% percentile value so the 80% confidence interval is -.4 to 8.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1, </a:t>
            </a:r>
            <a:r>
              <a:rPr b="1" lang="en-US" sz="3200" spc="-1" strike="noStrike">
                <a:solidFill>
                  <a:srgbClr val="000000"/>
                </a:solidFill>
                <a:latin typeface="Calibri"/>
              </a:rPr>
              <a:t>-.4</a:t>
            </a:r>
            <a:r>
              <a:rPr b="0" lang="en-US" sz="3200" spc="-1" strike="noStrike">
                <a:solidFill>
                  <a:srgbClr val="000000"/>
                </a:solidFill>
                <a:latin typeface="Calibri"/>
              </a:rPr>
              <a:t>, 1.1, 2.2, 3.3, 4.2, 5.2, 6.4, </a:t>
            </a:r>
            <a:r>
              <a:rPr b="1" lang="en-US" sz="3200" spc="-1" strike="noStrike">
                <a:solidFill>
                  <a:srgbClr val="000000"/>
                </a:solidFill>
                <a:latin typeface="Calibri"/>
              </a:rPr>
              <a:t>8.1</a:t>
            </a:r>
            <a:r>
              <a:rPr b="0" lang="en-US" sz="3200" spc="-1" strike="noStrike">
                <a:solidFill>
                  <a:srgbClr val="000000"/>
                </a:solidFill>
                <a:latin typeface="Calibri"/>
              </a:rPr>
              <a:t>, 10.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liminary Remark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ability theory: given individual probabilities (e.g. for a die, p(2) = 1/6), find compound probabilities (e.g. for a pair of dice, p(7) = 6/3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istics: given data, try to find probabilities of a null hypothesis and therefore get some hint about an alternative hypothes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Method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milar in spirit to bootstraps, but instead of resampling from a single sample, resample from some sim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sic scheme: simulate a lot of times. Count perhaps with weight each outco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d in physics when good simulation model. In finance for interest rate models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assic: A circle inscribed in a square has an area of pi*r*r whereas the circumscribing square has area of 4*r*r. So the ratio is pi/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imate pi by dropping points in the square and counting how many lie  within cir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at proportion should be pi/4, so get an estimate of p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 2</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nance: what is the expected value and 90% confidence interval of a portfolio, given a probability distribution on inflation, interest rates, technology advances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times, set each of these parameters based on the probability distribution and look at retu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results to get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vs. Natural</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fidence intervals tend to vary more for social/cultural phenomena than natural ones:  people’s weights vary by a factor of maybe 20, but incomes can vary by a factor of 1000 or mor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re important: in human affairs, past behavior is a bad predictor of future behavior (e.g. German Mark vs. Dollar in the early 1920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e Nassim Taleb’s book: </a:t>
            </a:r>
            <a:r>
              <a:rPr b="0" i="1" lang="en-US" sz="3000" spc="-1" strike="noStrike">
                <a:solidFill>
                  <a:srgbClr val="000000"/>
                </a:solidFill>
                <a:latin typeface="Calibri"/>
              </a:rPr>
              <a:t>The Black Swa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Absence of evidence is different from evidence of abse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estions for You</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1</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sider single drug value 66 and single placebo value 53. What will bootstrapping do? What will shuffling 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fact, first check whether the p-value is small, before measuring the confidence inter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2</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finitely not. Take 1000 people at random. Very unlikely that Warren Buffet or Bill Gates is among them. Would never be able to find maximum wealth in country from those 1000 using bootstrapp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3</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doesnt. If there is any selection bias, a study</a:t>
            </a:r>
            <a:r>
              <a:rPr b="0" lang="ja-JP" sz="3200" spc="-1" strike="noStrike">
                <a:solidFill>
                  <a:srgbClr val="000000"/>
                </a:solidFill>
                <a:latin typeface="Calibri"/>
              </a:rPr>
              <a:t>’</a:t>
            </a:r>
            <a:r>
              <a:rPr b="0" lang="en-US" sz="3200" spc="-1" strike="noStrike">
                <a:solidFill>
                  <a:srgbClr val="000000"/>
                </a:solidFill>
                <a:latin typeface="Calibri"/>
              </a:rPr>
              <a:t>s conclusion may be totally wrong. Example: age of death is highest in Monaco and Andorra. Is the diet so much better? Are people so much more f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rther Reading</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ur book </a:t>
            </a:r>
            <a:r>
              <a:rPr b="0" i="1" lang="en-US" sz="3200" spc="-1" strike="noStrike">
                <a:solidFill>
                  <a:srgbClr val="000000"/>
                </a:solidFill>
                <a:latin typeface="Calibri"/>
              </a:rPr>
              <a:t>Statistics is Easy </a:t>
            </a:r>
            <a:r>
              <a:rPr b="0" lang="en-US" sz="3200" spc="-1" strike="noStrike">
                <a:solidFill>
                  <a:srgbClr val="000000"/>
                </a:solidFill>
                <a:latin typeface="Calibri"/>
              </a:rPr>
              <a:t>goes on to discuss the most important statistical topics: mean, difference between means, chi-squared tests, statistical power, fisher exact test, anova, regression, correlation, and multiple testing, all from the point of view of resamp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thout the case study, it</a:t>
            </a:r>
            <a:r>
              <a:rPr b="0" lang="ja-JP" sz="3200" spc="-1" strike="noStrike">
                <a:solidFill>
                  <a:srgbClr val="000000"/>
                </a:solidFill>
                <a:latin typeface="Calibri"/>
              </a:rPr>
              <a:t>’</a:t>
            </a:r>
            <a:r>
              <a:rPr b="0" lang="en-US" sz="3200" spc="-1" strike="noStrike">
                <a:solidFill>
                  <a:srgbClr val="000000"/>
                </a:solidFill>
                <a:latin typeface="Calibri"/>
              </a:rPr>
              <a:t>s only 53 p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re extensive books are given as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Counting to Reason</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I tell you that a certain disease D occurs in only 1% of the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has D, then test T will find it with probability 9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does not have the disease D, then T will come out negative 90% of the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a test done to a random person, a person comes out positive for 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toss a coin 17 times and it comes up heads 15 out of 17 ti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likely is it that coin is fa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uld look up Gaussian approximations to Binomial processes.  Maybe you</a:t>
            </a:r>
            <a:r>
              <a:rPr b="0" lang="ja-JP" sz="3200" spc="-1" strike="noStrike">
                <a:solidFill>
                  <a:srgbClr val="000000"/>
                </a:solidFill>
                <a:latin typeface="Calibri"/>
              </a:rPr>
              <a:t>’</a:t>
            </a:r>
            <a:r>
              <a:rPr b="0" lang="en-US" sz="3200" spc="-1" strike="noStrike">
                <a:solidFill>
                  <a:srgbClr val="000000"/>
                </a:solidFill>
                <a:latin typeface="Calibri"/>
              </a:rPr>
              <a:t>ve forgott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uition First</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9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8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7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5%</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unting Approach</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agine you have 1000 people. 1% have the disease so that is 10 people. 9 will test positive.  If everyone takes the test, then of the 990 healthy people, approximately 99 will come out positive for T. So, at worst the likelihood that the person who tests positive has D is about 1 in 10 (9/9+9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yesian Approach</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D|T) = Prob(T|D) * Prob(D)/Prob(T) which is approximately equal to 0.9 * 0.01/0.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T) = Prob(D)* Prob(T|D) + Prob(~D)*Prob(T|~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early mammograms reduce frequency of late stage breast cancer (40,000 in 2014) from 102 to 94 per 100,000 in the United States. Statistically significa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 to 47% of cancer treatments are unnecessary. So, of the 200,000 treatments in 2014, approximately 50,000 were unnecessary.</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 What Should You Do?</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do nothing, risk of dying is about 2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accept treatment, then risk of dying is 18.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eatment means chemotherapy/rad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ferences:</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1"/>
              </a:rPr>
              <a:t>https://qap.sdsu.edu/screening/breastcancer/facts.htm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www.webmd.com/breast-cancer/news/20121121/breast-cancer-yearly-mammogra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lim By Chocolate Hoax</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cience journalist John Bohannon ran a study in which he took 15 people, divided them into three groups – low carb, low carb with chocolate, normal di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ter three weeks, he measured weight loss and chocolate group did best with low p-val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ult is Probably Junk – why?</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sured 18 quantities: weight, cholesterol, sodium, sleep quality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such a small number of people, something will get a low p-val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lem of multiple tes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ticle ref: http://io9.com/i-fooled-millions-into-thinking-chocolate-helps-weight-17072518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1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ould do the following 10,000 times: toss a fair coin 17 times and count how many times you end up with 15 or more heads.</a:t>
            </a:r>
            <a:endParaRPr b="0" lang="en-US" sz="3200" spc="-1" strike="noStrike">
              <a:solidFill>
                <a:srgbClr val="000000"/>
              </a:solidFill>
              <a:latin typeface="Calibri"/>
            </a:endParaRPr>
          </a:p>
        </p:txBody>
      </p:sp>
      <p:pic>
        <p:nvPicPr>
          <p:cNvPr id="49" name="Picture 3" descr="coinflip.tiff"/>
          <p:cNvPicPr/>
          <p:nvPr/>
        </p:nvPicPr>
        <p:blipFill>
          <a:blip r:embed="rId1"/>
          <a:stretch/>
        </p:blipFill>
        <p:spPr>
          <a:xfrm>
            <a:off x="717480" y="3429000"/>
            <a:ext cx="6159600" cy="336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is Practical?</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kes under a second with your compu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is cheating? No, in the spirit of our times: solve differential equations with Euler’s meth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it better than analytical computation? Yes, because more robust, easier to reason abou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is the Resul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thing like 9 out of 10,000 times, get 15 heads in 17 tosses, assuming a fair co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gives a </a:t>
            </a:r>
            <a:r>
              <a:rPr b="0" lang="ja-JP" sz="3200" spc="-1" strike="noStrike">
                <a:solidFill>
                  <a:srgbClr val="000000"/>
                </a:solidFill>
                <a:latin typeface="Calibri"/>
              </a:rPr>
              <a:t>“</a:t>
            </a:r>
            <a:r>
              <a:rPr b="0" lang="en-US" sz="3200" spc="-1" strike="noStrike">
                <a:solidFill>
                  <a:srgbClr val="000000"/>
                </a:solidFill>
                <a:latin typeface="Calibri"/>
              </a:rPr>
              <a:t>p-value</a:t>
            </a:r>
            <a:r>
              <a:rPr b="0" lang="ja-JP" sz="3200" spc="-1" strike="noStrike">
                <a:solidFill>
                  <a:srgbClr val="000000"/>
                </a:solidFill>
                <a:latin typeface="Calibri"/>
              </a:rPr>
              <a:t>”</a:t>
            </a:r>
            <a:r>
              <a:rPr b="0" lang="en-US" sz="3200" spc="-1" strike="noStrike">
                <a:solidFill>
                  <a:srgbClr val="000000"/>
                </a:solidFill>
                <a:latin typeface="Calibri"/>
              </a:rPr>
              <a:t> of 9/10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value is the probability that the outcome observed would have happened by chance if the coin truly were f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maller p-value means less likely that the </a:t>
            </a:r>
            <a:r>
              <a:rPr b="0" lang="ja-JP" sz="3200" spc="-1" strike="noStrike">
                <a:solidFill>
                  <a:srgbClr val="000000"/>
                </a:solidFill>
                <a:latin typeface="Calibri"/>
              </a:rPr>
              <a:t>“</a:t>
            </a:r>
            <a:r>
              <a:rPr b="0" lang="en-US" sz="3200" spc="-1" strike="noStrike">
                <a:solidFill>
                  <a:srgbClr val="000000"/>
                </a:solidFill>
                <a:latin typeface="Calibri"/>
              </a:rPr>
              <a:t>null hypothesis</a:t>
            </a:r>
            <a:r>
              <a:rPr b="0" lang="ja-JP" sz="3200" spc="-1" strike="noStrike">
                <a:solidFill>
                  <a:srgbClr val="000000"/>
                </a:solidFill>
                <a:latin typeface="Calibri"/>
              </a:rPr>
              <a:t>”</a:t>
            </a:r>
            <a:r>
              <a:rPr b="0" lang="en-US" sz="3200" spc="-1" strike="noStrike">
                <a:solidFill>
                  <a:srgbClr val="000000"/>
                </a:solidFill>
                <a:latin typeface="Calibri"/>
              </a:rPr>
              <a:t> (coin is fair) is tr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ndom experiments are a good way to establish causality in the face of uncontrolled variation (e.g. lifestyle, wealth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do an experiment in which we compare the positive effect of a drug vs. the effect of a placeb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4, 51, 58, 44, 55, 52, 42, 47, 58, 4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54, 73, 53, 70, 73, 68, 52, 65, 6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verage for drug is 63.7 and for placebo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at the end of the 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ybe not: perhaps the drug population </a:t>
            </a:r>
            <a:r>
              <a:rPr b="0" lang="ja-JP" sz="3200" spc="-1" strike="noStrike">
                <a:solidFill>
                  <a:srgbClr val="000000"/>
                </a:solidFill>
                <a:latin typeface="Calibri"/>
              </a:rPr>
              <a:t>“</a:t>
            </a:r>
            <a:r>
              <a:rPr b="0" lang="en-US" sz="3200" spc="-1" strike="noStrike">
                <a:solidFill>
                  <a:srgbClr val="000000"/>
                </a:solidFill>
                <a:latin typeface="Calibri"/>
              </a:rPr>
              <a:t>just happened</a:t>
            </a:r>
            <a:r>
              <a:rPr b="0" lang="ja-JP" sz="3200" spc="-1" strike="noStrike">
                <a:solidFill>
                  <a:srgbClr val="000000"/>
                </a:solidFill>
                <a:latin typeface="Calibri"/>
              </a:rPr>
              <a:t>”</a:t>
            </a:r>
            <a:r>
              <a:rPr b="0" lang="en-US" sz="3200" spc="-1" strike="noStrike">
                <a:solidFill>
                  <a:srgbClr val="000000"/>
                </a:solidFill>
                <a:latin typeface="Calibri"/>
              </a:rPr>
              <a:t> to be be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ndard statistical approach: assume something about distributions and see how big the overlap among distributions 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sues with the standard approach?</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tribution assumption may not h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st be careful about different sizes of one population vs. the o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sy to get the technicalities wrong (for non-statistici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09T14:45:38Z</dcterms:created>
  <dc:creator>Dennis Shasha</dc:creator>
  <dc:description/>
  <dc:language>en-US</dc:language>
  <cp:lastModifiedBy>Dennis Shasha</cp:lastModifiedBy>
  <dcterms:modified xsi:type="dcterms:W3CDTF">2018-10-15T20:36:50Z</dcterms:modified>
  <cp:revision>38</cp:revision>
  <dc:subject/>
  <dc:title>Statistics is Easy</dc:title>
</cp:coreProperties>
</file>