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984CD-533F-4982-A4AA-3CE2E7626F6E}"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D7335-2E1E-4EEB-8DCE-D7C84B7F26EE}"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3F2AE-E8F2-4A88-BEFE-E75BE50ACF06}"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F5C779-80E7-4C82-8234-E4CCA9A3925B}"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86F67-E235-4FAA-A408-FC5CBCAC8843}"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C0FDD66D-DF40-4823-ADC9-72F996F0D75F}"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D050AAE5-AE00-4E09-A2A0-0486F1FD7C27}" type="datetime3">
              <a:rPr b="0" lang="en-US" sz="1100" spc="-1" strike="noStrike">
                <a:solidFill>
                  <a:srgbClr val="ffffff"/>
                </a:solidFill>
                <a:latin typeface="Times New Roman"/>
              </a:rPr>
              <a:t>July 28,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0C3E1EA3-9E9B-4435-9FB9-9AC3EEF1FD6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A5953942-4958-4EA4-B176-FD2DBC53CCC7}" type="datetime3">
              <a:rPr b="0" lang="en-US" sz="1100" spc="-1" strike="noStrike">
                <a:solidFill>
                  <a:srgbClr val="ffffff"/>
                </a:solidFill>
                <a:latin typeface="Times New Roman"/>
              </a:rPr>
              <a:t>July 28,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E5913BB5-C63B-4CD5-A218-F8764C09D05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