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2663D-BBD4-4C8B-902C-2CD869F0ACE1}"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12796-5489-4E55-BDD7-CAEA19EED9A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DB11C-EDAC-4828-A695-F38D585F58BD}"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E9214-BC56-4A4B-B412-2AF51100E1BE}"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51887-79A3-4D6A-8AA0-B13478FC945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CB364D89-4416-47C8-9C3D-FE04A81560DD}"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0DBFFF12-1098-4CA1-9AFF-D01FA20C3134}"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249A8C97-55F3-4C1B-9AB5-EAD64998325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469600FB-6037-4DF7-888F-5561B2187F6B}" type="datetime3">
              <a:rPr b="0" lang="en-US" sz="1100" spc="-1" strike="noStrike">
                <a:solidFill>
                  <a:srgbClr val="ffffff"/>
                </a:solidFill>
                <a:latin typeface="Times New Roman"/>
              </a:rPr>
              <a:t>July 31,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A42847E5-787A-41B4-9A83-53EED77BEEBD}"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